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SER.WAV" ContentType="audio/x-wav"/>
  <Override PartName="/ppt/media/VOLO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2AB-5062-455F-81BC-87683E52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4E5-5F30-4ED5-9D09-10BC7504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DA4-324A-49A8-97FA-3DA9A856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DFC-69A8-4146-B30B-85A61867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BFCC-8583-49EA-B0F2-247E47A9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BFD0-B21C-4DB1-A469-A6429327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C343-357F-416D-80CF-DF537104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6E80-67A9-4A42-A699-01E92153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CB74-16EC-47A1-8F04-EA11D6BD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197E-35B4-4E94-A78B-88ADB843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7C46-E387-4602-BFB0-7C8EBCF8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475-33DA-47AC-AB8E-412269E0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3AB0-3B6E-4120-9058-99EA0EBA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0720-560D-4583-9759-A824DF57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6B95-4EDD-42A6-80A1-79B6DC09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F75E-A426-4399-AF9A-17FAD078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BFC7-7C6C-463A-9723-65DB0572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1F6-8360-4714-BBFD-815B4E4E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00B-042B-4822-85CE-CFA67816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149-9830-4832-BF5E-A35F47B3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13B-5DBA-42A4-AEFD-8F1D752C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99B-BE3C-43DB-9881-6722936C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FF3-C402-4632-A021-BB8324C1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DAE-279C-49FA-B637-C3268B3D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3DC1-EAFF-4816-B89E-E49416BA5B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0BA8-D7DE-4DF4-9504-FF5950C68D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VOLO.WAV"/><Relationship Id="rId2" Type="http://schemas.openxmlformats.org/officeDocument/2006/relationships/audio" Target="../media/VOLO.WAV"/><Relationship Id="rId3" Type="http://schemas.openxmlformats.org/officeDocument/2006/relationships/audio" Target="../media/VOLO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644640"/>
            <a:ext cx="8534520" cy="191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sperienze applicative di organizzazione e gestione di programmi di sostegno alle attività turistiche inseriti in un patto territorial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atto Polis</a:t>
            </a:r>
            <a:br>
              <a:rPr sz="3200"/>
            </a:br>
            <a:r>
              <a:rPr b="1" i="1" lang="en-US" sz="1800" spc="-1" strike="noStrike">
                <a:solidFill>
                  <a:srgbClr val="ffcc66"/>
                </a:solidFill>
                <a:latin typeface="Arial"/>
                <a:ea typeface="Arial Unicode MS"/>
              </a:rPr>
              <a:t>Maggio 2003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0760" y="-36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Tecnopolis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CS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2550960" y="5943600"/>
            <a:ext cx="403884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  <a:ea typeface="Arial Unicode MS"/>
              </a:rPr>
              <a:t>Nicola Sciacovell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914400"/>
            <a:ext cx="4724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INNOVAZI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DEI SISTEM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TERRITORIA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276720" cy="21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95480" y="457200"/>
            <a:ext cx="563904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Aspetti positivi dei Patti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 Unicode MS"/>
              </a:rPr>
              <a:t>rafforzano la tendenza a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 Unicode MS"/>
              </a:rPr>
              <a:t>fare distrett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 Unicode MS"/>
              </a:rPr>
              <a:t> in aree di addensamento produttiv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 Unicode MS"/>
              </a:rPr>
              <a:t>rafforzano la capacità di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 Unicode MS"/>
              </a:rPr>
              <a:t>fare tessut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 Unicode MS"/>
              </a:rPr>
              <a:t> tra i soggetti loca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 Unicode MS"/>
              </a:rPr>
              <a:t>È stata rafforzano la capacità di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 Unicode MS"/>
              </a:rPr>
              <a:t>fare rete istituzional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 Unicode MS"/>
              </a:rPr>
              <a:t> tra tessuto produttivo e rappresentanza degli interessi ed istituzioni locali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609480"/>
            <a:ext cx="792504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Politiche economiche "dal basso"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utte le forze sociali e gli enti locali (associazioni, imprese, sindacati, amministratori, centri di ricerca, banche) progettano il proprio futu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alorizzazione delle caratteristiche e dalle potenzialità presenti nel tessuto territoriale, economico e culturale della propria are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304920"/>
            <a:ext cx="8001000" cy="9903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osa è la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ROGRAMMAZIONE NEGOZIATA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GLI STRUMENTI DELLA</a:t>
            </a:r>
            <a:br>
              <a:rPr sz="3200"/>
            </a:b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PROGRAMMAZIONE NEGOZI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Times New Roman"/>
              </a:rPr>
              <a:t>Patti Territorial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Contratti di program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Contratti d'are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tese Istituzionali di Program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ccordi di programma quadr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029200" y="333360"/>
            <a:ext cx="41148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0" y="620640"/>
            <a:ext cx="421164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tto territoria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rumento di composizione degli interessi particolari entro un disegno di pubblica utilità e di sviluppo del territorio in grado di esaltarne le peculiari vocazioni e deve coinvolgere i saperi locali sfruttando al massimo la presenza di soggetti che operano per l’innovazione scientifica e tecnologica (CNEL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’accordo, promosso da enti locali, parti sociali, o da altri soggetti pubblici o privati ..., relativo all’attuazione di un programma di interventi caratterizzato da specifici obiettivi di promozione dello sviluppo locale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Legge 662/96 art. 2 c. 203 punto d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95680" y="380880"/>
            <a:ext cx="411480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strumento per l’individuazione di un complesso coordinato di interventi di tipo produttivo e promozionale, nonchè di quelli infrastrutturali ad essi funzionali, ai quali concorra il finanziamento pubblico (Cip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620640"/>
            <a:ext cx="421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tto territoria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Contratto di programma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(già previsto dalla legge 64/86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e tale si intende il contratto stipulato tra l’amministrazione statale competente, grandi imprese, consorzi di medie e piccole imprese e rappresentanze di distretti industriali per la realizzazione di interventi oggetto di programmazione negoziat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Contratto d'are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e tale si intende lo strumento operativo, concordato tra amministrazioni, anche locali, rappresentanze dei lavoratori e dei datori di lavoro, nonché eventuali altri soggetti interessati, per la realizzazione delle azioni finalizzate ad accelerare lo sviluppo e la creazione di una nuova occupazione in territori circoscritti, nell’ambito delle aree di crisi e delle aree di sviluppo industriale e dei nuclei di industrializzazione situati nei territori di cui all’obiettivo 1, che presentino requisiti di più rapida attivazione di investimenti di disponibilità di aree attrezzate e di risorse private o derivanti da interventi normativ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tesa Istituzionale di Program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à prevista dalla legge 142/90, è un accordo tra amministrazione centrale, regionale o delle provincie autonome con cui tali soggetti si impegnano a collaborare sulla base di una ricognizione programmatica delle risorse finanziarie disponibili, dei soggetti interessati e delle procedure amministrative occorrenti, per la realizzazione di un piano pluriennale di interventi d'interesse comune o funzionalmente collegat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ccordo di programma quadr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’ un accordo con enti locali ed altri soggetti pubblici e privati promosso da amministrazione centrale, regionale o delle provincie autonome, in attuazione di un'intesa istituzionale di programma per la definizione di un programma esecutivo di interventi di interesse comune o funzionalmente collegat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066680"/>
            <a:ext cx="3048120" cy="8384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 REQUISI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24382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’idea-forz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esenza di imprenditorialità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sieme integrato di progetti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pida eseguibilità e contenuta dimension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certazione local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impegni ed obblighi dei sottoscritto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os’è lo sviluppo loca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vilupp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è un processo caratterizzato da rilevanti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trasformazion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ella struttura economica e sociale che si accompagna ad un aumento di prodotto pro-capi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Times New Roman"/>
              </a:rPr>
              <a:t>Trasformazioni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ei processi di produzione, nei modelli di consumo, nei rapporti tra gruppi sociali ed istituzioni, nelle relazioni con l’economia estern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1066680"/>
            <a:ext cx="3048120" cy="8384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 REQUISI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440" y="2437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impegni ed obblighi dei sottoscritto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dalle amministrazioni locali per l'accelerazione burocratica delle autorizzazioni amministrative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dalle rappresentanze sindacali per gli strumenti di flessibilità sul lavoro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dalle associazioni di categoria per i servizi di supporto alle imprese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dal sistema creditizio per le condizioni e i tempi di accesso al credit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Trebuchet MS"/>
              </a:rPr>
              <a:t>IMPRE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rebuchet MS"/>
              </a:rPr>
              <a:t>mancanza una cultura imprenditoriale aperta all'innovazione e alla globalizzazi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rebuchet MS"/>
              </a:rPr>
              <a:t>scarso corporativismo ed integrazione di filiera nei diversi setto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rebuchet MS"/>
              </a:rPr>
              <a:t>carenza nei programmi di investimento sulle opportunità di mercato e nella identificazione della copertura finanziaria del programma e dei mezzi propri da conferire nell'iniziativ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rebuchet MS"/>
              </a:rPr>
              <a:t>scarsa disponibilità di capitali propri da utilizzare per il programma di investim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380880"/>
            <a:ext cx="3504960" cy="8384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 PROBLEM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14600" y="380880"/>
            <a:ext cx="586728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INQUADRAMENTO NORMATIVO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Intervento Straordinar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legge 488/92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legge 104/95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delibera CIPE del 10-5-9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delibera CIPE del 12-7-96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articolo 2, c. 203 della Legge 23.6.1996, n. 66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Delibera CIPE del 21.3.9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3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14600" y="380880"/>
            <a:ext cx="586728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INQUADRAMENTO NORMATIVO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L’articolo 2, c. 203 Legge 23.6.1996, n. 662 dispone che “Gli interventi che coinvolgono una molteplicità di soggetti pubblici e privati ed implicano decisioni istituzionali e risorse finanziarie a carico delle amministrazioni statali, regionali e delle provincie autonome nonchè degli enti locali, possono essere regolati sulla base di accordi” facenti capo alle seguenti tipologie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Programmazione negozi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Intesa Istituzionale di Program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Accordo di Programma Quad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Patto Territori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Contratto di Program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Contratto d’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9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380880"/>
            <a:ext cx="792468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deliberazione CIPE del 21 marzo 97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 deliberazione CIPE del 21 marzo 97 (GURI 8.5.97) adotta per i patti territoriali una disciplina unitaria sostitutiva di tutte le precedenti disposizioni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engono indicati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nalità e soggetto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ree territorial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ggetti promotori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ttoscrittor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ggetto responsabile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ntenuto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tocolli aggiuntivi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cordo fra i soggetti pubblici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nanziamenti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cedur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rogazion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soggetti promotori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Amministrazioni comunali ed enti pubblici local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Associazioni imprenditoriali e di categoria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Organizzazioni sindacal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Istituti di credito e finanziar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685800"/>
            <a:ext cx="792504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IL PARTENARIATO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attuare nuove strategie o un piano di svilupp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rispondere a una crisi loca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cogliere opportunità di finanziamento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vantaggio reciproco e valore aggiunto per ciascun part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preparazione e coinvolgimento attivo dei part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38080" y="685800"/>
            <a:ext cx="792504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Requisiti e limitazioni per i </a:t>
            </a:r>
            <a:br>
              <a:rPr sz="2800"/>
            </a:b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programmi di investimento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rebuchet MS"/>
              </a:rPr>
              <a:t>I programmi di investimento imprenditoriali devono riguardare iniziative relative ai settori: industria, agroindustria, servizi alle imprese, turismo, agricoltura, pesca e acquacoltu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rebuchet MS"/>
              </a:rPr>
              <a:t>I progetti infrastrutturali devono essere strettamente funzionali alle iniziative imprenditoria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rebuchet MS"/>
              </a:rPr>
              <a:t>Contributo dello stato massimo di 100 miliardi di li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rebuchet MS"/>
              </a:rPr>
              <a:t>I progetti infrastrutturali possono assorbire non più del 30% del contributo richiesto a fronte delle iniziative imprenditoria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685800"/>
            <a:ext cx="792504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Requisiti e limitazioni per i </a:t>
            </a:r>
            <a:br>
              <a:rPr sz="2800"/>
            </a:b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programmi di investimento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I patti tematici o specializzati in alcuni specifici settori produttivi (come agricoltura, turismo, ecc.) possono essere finanziati fino ad un massimo 50 miliardi di li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concorso di capitale privato non inferiore al 30% dell'investimento complessivo proposto (20% nel settore dell'agricoltura e della pesc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Quadro di sviluppo di un patto territoriale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1600200"/>
            <a:ext cx="5689440" cy="2858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mozione e concertazi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1981080"/>
            <a:ext cx="5689440" cy="2858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lo d’inte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362320"/>
            <a:ext cx="568944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ettazione del Pat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 l’ausilio di una società convenzion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3124080"/>
            <a:ext cx="5689440" cy="7812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tazi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goli investimenti (modalità D.M. 527/95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erenza complessiva con gli obiettiv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038480"/>
            <a:ext cx="5689440" cy="5526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creto Ministero del Bilanc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entro 45 gg dalla presentazion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724280"/>
            <a:ext cx="5689440" cy="5907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ttoscrizione del pat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ntro 60 g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5410080"/>
            <a:ext cx="5689440" cy="3430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ituzione soggetto responsab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943600"/>
            <a:ext cx="5689440" cy="3430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C.DD.PP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rogazione entro 30g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971640"/>
            <a:ext cx="1320840" cy="514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tori locali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2840" y="971640"/>
            <a:ext cx="1320840" cy="514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ti locali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1219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121932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57440" y="1219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121932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0"/>
                            </p:stCondLst>
                            <p:childTnLst>
                              <p:par>
                                <p:cTn id="53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500"/>
                            </p:stCondLst>
                            <p:childTnLst>
                              <p:par>
                                <p:cTn id="54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5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5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os’è lo sviluppo loca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i="1" lang="it-IT" sz="3200" spc="-1" strike="noStrike">
                <a:solidFill>
                  <a:srgbClr val="ffffcc"/>
                </a:solidFill>
                <a:latin typeface="Times New Roman"/>
              </a:rPr>
              <a:t>Lo sviluppo dipende non tanto dal trovare le combinazioni ottimali delle risorse e dei fattori di produzione dati, quanto dal suscitare ed utilizzare risorse e capacità nascoste, disperse e male utilizzate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it-IT" sz="2400" spc="-1" strike="noStrike">
                <a:solidFill>
                  <a:srgbClr val="ffffcc"/>
                </a:solidFill>
                <a:latin typeface="Times New Roman"/>
              </a:rPr>
              <a:t>A. O. Hirschman, 195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23 Patti approvati dal Ministero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3-2-99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GR.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PATTO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IND.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FIN.PUBB.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Cosentino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2,254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92.462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Rieti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2,181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13.307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Lametino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2,057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94.391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Bari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928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60.521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Alto Tirre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Cosentino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831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87.658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Locride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774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99.526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Messina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709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94.804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Sele-Tanagro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629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77.305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Area Sud Basilicata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542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16.831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Matera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477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32.072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Castellaneta, 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Martinafranca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.445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75.000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5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0"/>
                            </p:stCondLst>
                            <p:childTnLst>
                              <p:par>
                                <p:cTn id="6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6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5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23 Patti approvati dal Ministero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3-2-99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GR.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PATTO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IND.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FIN.PUBB.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Ferrara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426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42.591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Sistema Murginao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396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24.656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Taranto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389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77.696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Avellino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363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55.630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Frosinone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278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60.654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Livorno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,204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58.189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Alessandria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0,994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44.448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19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Rovigo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0,988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84.932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Massa Carrara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0,893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57.444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21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Valdichiana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0,893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90.213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22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Cuneese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0,608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9.185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23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Piombi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Val di Cornia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0,600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65.293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00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0"/>
                            </p:stCondLst>
                            <p:childTnLst>
                              <p:par>
                                <p:cTn id="6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50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6500"/>
                            </p:stCondLst>
                            <p:childTnLst>
                              <p:par>
                                <p:cTn id="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7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38080" y="685800"/>
            <a:ext cx="792504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Situazione complessiva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  <a:ea typeface="Arial Unicode MS"/>
              </a:rPr>
              <a:t>Al 29 febbraio 2000: 61 Patti, per un totale di circa 1.350 iniziative imprenditoriali e circa 3.900 miliardi di lire di finanziamenti pubblic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  <a:ea typeface="Arial Unicode MS"/>
              </a:rPr>
              <a:t>Di questi 61 Patti, 41 sono localizzati nel Mezzogiorno e si estendono su un territorio che copre il 36% dell'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  <a:ea typeface="Arial Unicode MS"/>
              </a:rPr>
              <a:t>Nel complesso i 61 Patti prevedono 60.215 posti di lavoro (156.049, se si aggiungono i dati, notevolmente sovrastimati dal Ministero del Tesoro, relativi al Patto di Ascoli Piceno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l ruolo di assistenz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ttuazione di Patti Territorial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nsulenza agli imprenditori e monitoraggio sviluppo dei progett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struttoria documentazione per la richiesta erogazio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spezioni e controlli avanzamento lavo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lazioni semestrali al Ministero del Teso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serviz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88000" y="54936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osa fa un patto territoria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500"/>
                            </p:stCondLst>
                            <p:childTnLst>
                              <p:par>
                                <p:cTn id="7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500"/>
                            </p:stCondLst>
                            <p:childTnLst>
                              <p:par>
                                <p:cTn id="7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26920" y="1552680"/>
            <a:ext cx="74170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500"/>
                            </p:stCondLst>
                            <p:childTnLst>
                              <p:par>
                                <p:cTn id="8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NIZIATIVE PROPOSTE: 128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vestimenti             354.830 ML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gevolazione           128.871 ML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ROGETTI POSITIVAMENTE ISTRUITI: 88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ROGETTI INVIATI ALLA SUCCESSIVA ISTRUTTORIA BANCARIA IN BASE ALLA GRADUATORIA E ALLE RISORSE FINANZIARIE DISPONIBILI: 56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vestimenti                         130 ML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gevolazione richiesta         36.7 ML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pitali privati                       93,4 ML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uova occupazione             901 unità (nel periodo '99-2003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8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0"/>
                            </p:stCondLst>
                            <p:childTnLst>
                              <p:par>
                                <p:cTn id="8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6000"/>
                            </p:stCondLst>
                            <p:childTnLst>
                              <p:par>
                                <p:cTn id="8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7000"/>
                            </p:stCondLst>
                            <p:childTnLst>
                              <p:par>
                                <p:cTn id="8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9000"/>
                            </p:stCondLst>
                            <p:childTnLst>
                              <p:par>
                                <p:cTn id="8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541440" y="1484280"/>
            <a:ext cx="968544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i </a:t>
            </a:r>
            <a:r>
              <a:rPr b="1" lang="it-IT" sz="2400" spc="-1" strike="noStrike">
                <a:solidFill>
                  <a:srgbClr val="ffffcc"/>
                </a:solidFill>
                <a:latin typeface="Times New Roman"/>
              </a:rPr>
              <a:t>punti di forza</a:t>
            </a: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 del settore turismo possono ricondursi ai seguenti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elevato turismo di transito verso il Mediterraneo (che necessita, però, di essere trasformato in turismo con carattere di permanenz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risorse paesaggistiche di indiscusso pregio e notevole patrimonio culturale, artistico e di tradizioni (Alberobello è una città-monumento posta sotto la tutela dell'UNESCO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ridotta pressione turistica e ridotto sfruttamento di aree di interesse paesaggistic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ricca e variegata coltivazione di prodotti tipici della terra e consolidata tradizione enogastronomica (le "Strade del Vino e dell'Olio" che interessano il territorio del patto contribuiscono ad accrescere l'attrattività turistic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radicata propensione alla ospitalità da parte delle popolazioni loca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9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3000"/>
                            </p:stCondLst>
                            <p:childTnLst>
                              <p:par>
                                <p:cTn id="9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0"/>
                            </p:stCondLst>
                            <p:childTnLst>
                              <p:par>
                                <p:cTn id="9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0"/>
                            </p:stCondLst>
                            <p:childTnLst>
                              <p:par>
                                <p:cTn id="9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000"/>
                            </p:stCondLst>
                            <p:childTnLst>
                              <p:par>
                                <p:cTn id="9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7000"/>
                            </p:stCondLst>
                            <p:childTnLst>
                              <p:par>
                                <p:cTn id="9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24000" y="1628640"/>
            <a:ext cx="9468000" cy="49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unti di maggiore debolezz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son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sufficiente dotazione di strutture ricettiv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bole immagine del sistema turistico puglie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sufficiente sistema di offerta da parte degli operatori turistic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assa valorizzazione e fruibilità del patrimonio culturale (artistico, folcloristico, storico, archeologic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pinto degrado ambientale in alcuni siti di particolare pregio ambienta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sufficiente sistema dei trasporti e di servizi annessi (come parcheggi e aree di ristoro)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sufficiente fruibilità della costa in generale e carenza di spiagge attrezz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carsa propensione all’investimento da parte degli imprenditor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renza di servizi collaterali ricreativi e di ristorazione che limita notevolmente il prodotto turistic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468720" y="1628640"/>
            <a:ext cx="961236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OBIETTIVI del Patto TrulliGrotteMa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assicurare un ritorno di natura economica alle azioni di conservazione e protezione di aree naturali e di siti di valore storico, architettonico e artistico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potenziare le infrastrutture materiali ed immateriali e di servizi nel settore turistico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migliorare le condizioni economiche della comunità residenti e, allo stesso tempo, contribuire a ristabilire una consapevolezza positiva delle proprie tradizioni, origini, risors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recuperare e rivitalizzare le antiche tradizioni artigianali e gastronomiche locali per tutelare l’immagine autentica del territorio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favorire l’incremento di nuova occupazione soprattutto giovanile nel settore del turismo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favorire l'emersione del sommerso e del lavoro illegale ed irregolar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potenziare la ricettività attraverso: il recupero di strutture ricettive esistenti, la costruzione di nuove strutture ricettive, la valorizzazione della costa e dell'entroterra con interventi a basso impatto ambientale e compatibili con le tipologie architettoniche e con gli ecosistemi ambientali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541440" y="1905120"/>
            <a:ext cx="96854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promuovere il turismo religioso, culturale, storico, ambientale, l'agriturismo e il turismo rurale mediante la realizzazione di infrastrutture e servizi, la riqualificazione del patrimonio abitativo urbano e rurale, la realizzazione di strutture  ricreative e per il tempo libero e il sostegno di iniziative culturali volte al recupero dei centri storici  e delle tradizioni locali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stimolare la creazione di centri di servizio integrati per la promozione dell'offerta turistica soprattutto internazional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destagionalizzare i flussi turistici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favorire la riqualificazione manageriale degli operatori turistici e sostenere la formazione di nuove figure professionali nel settore creando le opportune sinergie tra il sistema della formazione e quello delle impres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migliorare il coordinamento tra Comuni del Patto sulle iniziative turistiche onde meglio programmare eventi, manifestazioni e itinerari di particolare rilevanza (Strade del Patto e ferrovie locali) sfruttando le peculiarità dei singoli territori e, soprattutto, creando un circuito virtuoso facilmente fruibil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os’è lo sviluppo loca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 ha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viluppo loca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quando l’impatto sulla comunità locale del processo di trasformazione assume caratteristiche ben definite e sufficientemente differenziate rispetto alle aree vici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468720" y="1905120"/>
            <a:ext cx="9612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favorire lo sviluppo di associazioni e consorzi turistici per rafforzare l'offerta turistica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migliorare la qualità dell'offerta turistica mediante azioni mirate alla standardizzazione e alla certificazione di qualità dei servizi turistici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promuovere progetti idonei a migliorare la qualità dei servizi e ad attivare nuovi flussi turistici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sensibilizzare l'opinione pubblica a difesa dell'utente attraverso attività informative-editoriali, assistenziali di ricerca legislativa, di propaganda nonchè di segnalazione attraverso un "osservatorio dei servizi" da istituir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ricorrere all'impiego di nuovi mezzi e metodi di comunicazione e realizzare progetti e sistemi informativi che costituiscano un collegamento diretto di interscambio di dati, notizie ed informazioni tra Pubblica Amministrazione ed utenti, tra il Patto, il Consorzio Turistico Intercomunale "Trulli Grotte Mare" e ogni altro ente, Associazione o soggetto interessat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0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468720" y="1904760"/>
            <a:ext cx="961236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PROMOTO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I Comuni di: Alberobello, Castellana Grotte, Cisternino, Conversano, Fasano, Locorotondo, Martina Franca, Mola di Bari, Monopoli, Noci, Ostuni, Polignano a Mare, Putignano, Rutigliano, Sammichele di Bari, Tu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Provincia di Bari, Consorzio Turistico Intercomunale "Trulli Grotte Mare", Camera di Commercio di Bari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Le Organizzazioni sindacali: CGIL, CISL, UIL, UG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Le Organizzazioni Provinciali di categoria: CNA e CNA Assoedili, CONFARTIGIANATO, COAP scrl, CIA, Ass. Prov. Produttori Patate, API Puglia, CNCD, Associazione import-export, Associazione Sviluppo POLIS, Confcommercio, Confesercenti, Federalberghi, Federcommercio, Assindust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"/>
                            </p:stCondLst>
                            <p:childTnLst>
                              <p:par>
                                <p:cTn id="12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-396720" y="1700280"/>
            <a:ext cx="954072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Altri Enti turistici: APT, Ente Bilaterale per il Turismo, Cotup, Fiavet, Faita, Consorzio Albergatori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Ordini Professionali: Ordine dei geologi di Puglia, Collegio Ragionieri e Periti Com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Enti di Ricerca, Formazione e Trasferimento tecnologico: Università di Bari, Politecnico di Bari, Tecnopolis Scrl, ENA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Gli Istituti di Credito: Banca Popolare di Puglia e Basilicata, Monte dei Paschi di Siena, Banca Popolare di Bari, Istituto S. Paolo di Torino, Banca di Roma, Banco di Napoli, Cassa Rurale ed Artigiana – Castellana Grotte, Istituto di Credito Artigiancassa, Finpuglia S.p.A., BNL S.p.A., Carime S.p.A., Banca 121 S.p.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757440" y="1904760"/>
            <a:ext cx="9901080" cy="42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Il Piano regionale di sviluppo per il turismo prevedeva negli anni scorsi il rilancio e la rivalorizzazione del settore secondo i seguenti obiettivi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incrementare il numero di strutture ricettive per raggiungere lo standard nazionale di posti letto per 1.000 abitant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migliorare la qualità dei servizi offerti, organizzando uno standard minimo di servizi per favorire la cooperazione tra gli operato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consentire la diversificazione dell’offerta in relazione alle fasce sociali, al reddito familiare, al prolungamento della permanenza nelle strutture ricettive in relazione al reddito spendib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sviluppare il turismo giovanil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-396720" y="1905120"/>
            <a:ext cx="9540720" cy="53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'industrializzazione dell'offerta turistic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come in altri Paesi, deve basarsi sulla creazione di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ndard di servizio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rtificazione ambientale ISO 14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fferenti tipologie di alberghi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uove forme di ricettività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versità per il turismo e scuole di formazione manageriale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modalità nel trasporto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ltura sui comportamenti dei consumatori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vestimenti su aree circoscrit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0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-684720" y="1905120"/>
            <a:ext cx="9828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Times New Roman"/>
              </a:rPr>
              <a:t>IL BANDO POLIS TURIS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il 10% destinato ai progetti di investimento che propongono attività di cui all'art.9 della legge 217/83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il 30% destinato ai progetti di investimento che propongono attività di cui all'art.6 della legge 217/83 ovvero le ulteriori attività indicate come priorità regionali per la Regione Puglia nel D.M. del MICA del 19 marzo 1999, che richiedano un contributo non superiore a 500 milioni di lire (258.228,45 EURO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il 60% destinato ai progetti di investimento che propongono attività di cui all'art.6 della legge 217/83 o le ulteriori attività indicate come priorità regionali per la Regione Puglia nel D.M. del MICA del 19 marzo 1999, che richiedano un contributo superiore a 500 milioni di lire (258.228,45 EURO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08000" y="1676520"/>
            <a:ext cx="5788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0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-684720" y="1904760"/>
            <a:ext cx="9828360" cy="57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INDICATORI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 PER LA GRADUATOR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Rapporto tra il capitale proprio immesso nell'iniziativa e l'investimento complessivo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Rapporto tra il numero di occupati attivati dall'iniziativa e l'investimento complessivo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Rapporto tra la misura massima dell’agevolazione concedibile e l'agevolazione richiesta per il programma di investim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Punteggio sulla base delle specifiche priorità Regionali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Indicatore ambienta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Il punteggio è ottenuto calcolando i valori degli indicatori normalizzati relativi agli indicatori 1, 2, 3 e 4 suddetti mediante la seguente formula: </a:t>
            </a:r>
            <a:br>
              <a:rPr sz="2000"/>
            </a:b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  </a:t>
            </a:r>
            <a:r>
              <a:rPr b="1" lang="it-IT" sz="2000" spc="-1" strike="noStrike">
                <a:solidFill>
                  <a:srgbClr val="ffffcc"/>
                </a:solidFill>
                <a:latin typeface="Times New Roman"/>
              </a:rPr>
              <a:t>Ini = (Ii - M) / 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Dove: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Times New Roman"/>
              </a:rPr>
              <a:t>Ini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= valore normalizzato per l'iniziativa n dell'indicatore i (i=1,2,3,4) </a:t>
            </a:r>
            <a:r>
              <a:rPr b="1" lang="it-IT" sz="20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= valore da normalizzare del singolo indicator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= media degli n valori da normalizzare (pari a quelli delle iniziative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= deviazione standard. </a:t>
            </a:r>
            <a:br>
              <a:rPr sz="2000"/>
            </a:b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  </a:t>
            </a:r>
            <a:br>
              <a:rPr sz="2000"/>
            </a:b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0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55640" y="1641600"/>
            <a:ext cx="74883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00"/>
                            </p:stCondLst>
                            <p:childTnLst>
                              <p:par>
                                <p:cTn id="16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1585800"/>
          <a:ext cx="9217080" cy="52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5800"/>
                    <a:ext cx="921708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attori per l’avvio dello svilupp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apacità organizzativa e imprenditoriale nel pubblico e priva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’accumulazione di cultura e conoscenze a livello loca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’attitudine alla cooperazione e coesione sociale (obiettivi comuni e vantaggi reciproci, diffusione della fiduci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-396720" y="1797120"/>
          <a:ext cx="10120320" cy="50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1797120"/>
                    <a:ext cx="1012032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0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757440" y="1905120"/>
            <a:ext cx="9901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ALCUNI DATI SULLA SITUAZIONE ATTUA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La data ufficiale di inizio di istruttoria bancaria è il: 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24 settembre 1999 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(valida ai fini del riconoscimento delle spese e delle annualità di contribut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I 48 mesi del patto scadono il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24 settembre 2003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. Entro il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24 maggio 2003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le imprese chiederanno la proroga. Con i 12 mesi di proroga il patto terminerà il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24 settembre 2004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il decreto di approvazione del Patto da parte del Ministero del T.B.P.E. è il n. 2401 del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28 novembre 2000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Imprese agevolate sono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45 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per un contributo a carico dello Stato pari a Euro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16.558.641,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progetti infrastrutturalie sono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7 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per Euro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7.096.556,78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e trovano il finanziamento nell’APQ Sviluppo Loca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0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00"/>
                            </p:stCondLst>
                            <p:childTnLst>
                              <p:par>
                                <p:cTn id="17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-757440" y="1905120"/>
            <a:ext cx="9721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la data della lettera con la quale il Soggetto responsabile comunica alla Cassa DD.PP. l'inserimento dell'impresa tra i beneficiari delle agevolazioni è il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21 maggio 2002. 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I 16 mesi entro cui avviare il programma scadono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il  21 settembre 2002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pena la revo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Modifiche ai programmi: Rinaldi MG, Prati Diramare, Polis srl, Hotel Colle del Sole e la sta richiedendo il Fagian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Le imprese che hanno rinunciato o non hanno sottoscritto il patto sono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7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per Euro </a:t>
            </a:r>
            <a:r>
              <a:rPr b="1" lang="it-IT" sz="2000" spc="-1" strike="noStrike">
                <a:solidFill>
                  <a:srgbClr val="ffffcc"/>
                </a:solidFill>
                <a:latin typeface="Times New Roman"/>
              </a:rPr>
              <a:t>1.531.294,71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di contributo pari al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9,2%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dell’intero finanziamento del pat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Le imprese che hanno chiesto ed ottenuto la prima erogazione sono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7 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per un totale di contributo di Euro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942.533,84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pari al 5,7% sul totale di 16 Meur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Il totale impegnato di contributo sui 7 programmi avviati è pari a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1.653.694,99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cioè il </a:t>
            </a:r>
            <a:r>
              <a:rPr b="0" lang="it-IT" sz="2000" spc="-1" strike="noStrike" u="sng">
                <a:solidFill>
                  <a:srgbClr val="ffffcc"/>
                </a:solidFill>
                <a:uFillTx/>
                <a:latin typeface="Times New Roman"/>
              </a:rPr>
              <a:t>10%</a:t>
            </a: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 dell’intero pat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c"/>
                </a:solidFill>
                <a:latin typeface="Times New Roman"/>
              </a:rPr>
              <a:t>La percentuale di imprese che hanno ottenuto il finanziamento è del 15,5%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48320" y="53352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HI E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fill="hold">
                      <p:stCondLst>
                        <p:cond delay="0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Times New Roman"/>
              </a:rPr>
              <a:t>Regionalizzazione degli strumenti di programmazione negozi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Times New Roman"/>
              </a:rPr>
              <a:t>Implementazione di funzioni di agenzia nei SIL (soggetti intermediari local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Times New Roman"/>
              </a:rPr>
              <a:t>Nuovi scenari delle politiche nazionali e regional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228600"/>
            <a:ext cx="426708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5335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303120"/>
            <a:ext cx="1143000" cy="14479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380880"/>
            <a:ext cx="4289400" cy="1086120"/>
          </a:xfrm>
          <a:prstGeom prst="rect">
            <a:avLst/>
          </a:prstGeom>
        </p:spPr>
        <p:txBody>
          <a:bodyPr wrap="none" lIns="91800" rIns="91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posizionam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0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erché la concertazio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2852640"/>
            <a:ext cx="280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060640"/>
            <a:ext cx="5832360" cy="2663640"/>
          </a:xfrm>
          <a:prstGeom prst="flowChartOffpageConnector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Effica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delle azion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4724280"/>
            <a:ext cx="2448000" cy="15843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Consenso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sulle priorit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4724280"/>
            <a:ext cx="2448000" cy="15843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Competizione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per la 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realizzazi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4724280"/>
            <a:ext cx="2448000" cy="15843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Interesse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comune 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a miglior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mbia il processo decisiona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2852640"/>
            <a:ext cx="280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1628640"/>
            <a:ext cx="2736720" cy="10796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Approccio dal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basso verso l’al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628640"/>
            <a:ext cx="5184720" cy="1224000"/>
          </a:xfrm>
          <a:custGeom>
            <a:avLst/>
            <a:gdLst>
              <a:gd name="textAreaLeft" fmla="*/ 0 w 5184720"/>
              <a:gd name="textAreaRight" fmla="*/ 5185080 w 51847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Approccio dall’alto </a:t>
            </a:r>
            <a:br>
              <a:rPr sz="3200"/>
            </a:b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verso il bass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924280"/>
            <a:ext cx="525636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Ripartizione omogenea</a:t>
            </a:r>
            <a:br>
              <a:rPr sz="3200"/>
            </a:b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delle risor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149720"/>
            <a:ext cx="525636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Centralizzazione</a:t>
            </a:r>
            <a:br>
              <a:rPr sz="3200"/>
            </a:b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e unicità di coman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445000"/>
            <a:ext cx="5256360" cy="1106640"/>
          </a:xfrm>
          <a:custGeom>
            <a:avLst/>
            <a:gdLst>
              <a:gd name="textAreaLeft" fmla="*/ 0 w 5256360"/>
              <a:gd name="textAreaRight" fmla="*/ 5256360 w 5256360"/>
              <a:gd name="textAreaTop" fmla="*/ 0 h 1106640"/>
              <a:gd name="textAreaBottom" fmla="*/ 1107000 h 11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66"/>
                </a:solidFill>
                <a:latin typeface="Arial"/>
              </a:rPr>
              <a:t>Separatezza di ruoli</a:t>
            </a:r>
            <a:br>
              <a:rPr sz="3200"/>
            </a:br>
            <a:r>
              <a:rPr b="1" i="1" lang="it-IT" sz="3200" spc="-1" strike="noStrike">
                <a:solidFill>
                  <a:srgbClr val="cc0066"/>
                </a:solidFill>
                <a:latin typeface="Arial"/>
              </a:rPr>
              <a:t>compet. e resp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2852640"/>
            <a:ext cx="2736720" cy="10796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Priorità condivise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fabbisogni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capacità di spe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4076640"/>
            <a:ext cx="2736720" cy="10796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Decentramento</a:t>
            </a:r>
            <a:br>
              <a:rPr sz="2400"/>
            </a:b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e accord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373720"/>
            <a:ext cx="2736720" cy="10796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Arial"/>
              </a:rPr>
              <a:t>Combinazione di</a:t>
            </a:r>
            <a:br>
              <a:rPr sz="2400"/>
            </a:br>
            <a:r>
              <a:rPr b="1" i="1" lang="it-IT" sz="2400" spc="-1" strike="noStrike">
                <a:solidFill>
                  <a:srgbClr val="00ff00"/>
                </a:solidFill>
                <a:latin typeface="Arial"/>
              </a:rPr>
              <a:t>ruoli, comp. </a:t>
            </a:r>
            <a:br>
              <a:rPr sz="2400"/>
            </a:br>
            <a:r>
              <a:rPr b="1" i="1" lang="it-IT" sz="2400" spc="-1" strike="noStrike">
                <a:solidFill>
                  <a:srgbClr val="00ff00"/>
                </a:solidFill>
                <a:latin typeface="Arial"/>
              </a:rPr>
              <a:t>resp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19320" y="457200"/>
            <a:ext cx="73152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Politiche economiche "dall'alto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n sempre le politiche economiche e gli interventi finanziari calati dall'alto (governo europeo e governi nazionali) hanno dato i frutti sperati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 inefficienze burocratic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n sempre ciò che può funzionare per un'area può risultare altrettanto efficace per alt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livello centrale manca una approfondita conoscenza delle condizioni e delle caratteristiche di tutte le aree al fine di calibrare interventi specifici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743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una forte economia nazionale è basata su forti economie local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0:56:00Z</dcterms:created>
  <dc:creator>Tecnopolis</dc:creator>
  <dc:description/>
  <dc:language>en-US</dc:language>
  <cp:lastModifiedBy>Sciacovelli</cp:lastModifiedBy>
  <cp:lastPrinted>2000-06-14T14:09:26Z</cp:lastPrinted>
  <dcterms:modified xsi:type="dcterms:W3CDTF">2003-05-20T12:00:42Z</dcterms:modified>
  <cp:revision>154</cp:revision>
  <dc:subject/>
  <dc:title>Nessun titolo diapositiva</dc:title>
</cp:coreProperties>
</file>