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8.jpeg" ContentType="image/jpeg"/>
  <Override PartName="/ppt/media/image12.png" ContentType="image/png"/>
  <Override PartName="/ppt/media/image18.jpeg" ContentType="image/jpeg"/>
  <Override PartName="/ppt/media/image7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0.wmf" ContentType="image/x-wmf"/>
  <Override PartName="/ppt/media/image5.jpeg" ContentType="image/jpe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7086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676160" y="4093920"/>
            <a:ext cx="7086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34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07480" y="1904760"/>
            <a:ext cx="34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093920"/>
            <a:ext cx="34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07480" y="4093920"/>
            <a:ext cx="34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2281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72320" y="1904760"/>
            <a:ext cx="2281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468480" y="1904760"/>
            <a:ext cx="2281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676160" y="4093920"/>
            <a:ext cx="2281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4072320" y="4093920"/>
            <a:ext cx="2281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468480" y="4093920"/>
            <a:ext cx="2281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76160" y="19047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3458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07480" y="1904760"/>
            <a:ext cx="3458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676520" y="-321120"/>
            <a:ext cx="712944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34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07480" y="1904760"/>
            <a:ext cx="3458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676160" y="4093920"/>
            <a:ext cx="34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676160" y="19047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3458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07480" y="1904760"/>
            <a:ext cx="34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07480" y="4093920"/>
            <a:ext cx="34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34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07480" y="1904760"/>
            <a:ext cx="34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676160" y="4093920"/>
            <a:ext cx="7086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7086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676160" y="4093920"/>
            <a:ext cx="7086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34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07480" y="1904760"/>
            <a:ext cx="34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676160" y="4093920"/>
            <a:ext cx="34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07480" y="4093920"/>
            <a:ext cx="34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2281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072320" y="1904760"/>
            <a:ext cx="2281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68480" y="1904760"/>
            <a:ext cx="2281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676160" y="4093920"/>
            <a:ext cx="2281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072320" y="4093920"/>
            <a:ext cx="2281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68480" y="4093920"/>
            <a:ext cx="2281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3458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07480" y="1904760"/>
            <a:ext cx="3458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676520" y="-321120"/>
            <a:ext cx="712944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34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07480" y="1904760"/>
            <a:ext cx="3458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676160" y="4093920"/>
            <a:ext cx="34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3458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07480" y="1904760"/>
            <a:ext cx="34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07480" y="4093920"/>
            <a:ext cx="34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34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07480" y="1904760"/>
            <a:ext cx="3458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76160" y="4093920"/>
            <a:ext cx="7086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7920" y="0"/>
            <a:ext cx="63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73200" y="9360"/>
            <a:ext cx="63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698480" y="9360"/>
            <a:ext cx="637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9360"/>
            <a:ext cx="619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51200" y="9360"/>
            <a:ext cx="619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76480" y="9360"/>
            <a:ext cx="619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01760" y="9360"/>
            <a:ext cx="637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327400" y="9360"/>
            <a:ext cx="63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452680" y="9360"/>
            <a:ext cx="63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579760" y="9360"/>
            <a:ext cx="619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705040" y="9360"/>
            <a:ext cx="619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830680" y="9360"/>
            <a:ext cx="619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955960" y="9360"/>
            <a:ext cx="63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081240" y="9360"/>
            <a:ext cx="637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206880" y="9360"/>
            <a:ext cx="63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333600" y="9360"/>
            <a:ext cx="619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3459240" y="9360"/>
            <a:ext cx="619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584520" y="9360"/>
            <a:ext cx="637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3710160" y="9360"/>
            <a:ext cx="63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3835440" y="9360"/>
            <a:ext cx="63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3960720" y="9360"/>
            <a:ext cx="637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4087800" y="9360"/>
            <a:ext cx="619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4213080" y="9360"/>
            <a:ext cx="619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4338720" y="9360"/>
            <a:ext cx="63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4464000" y="9360"/>
            <a:ext cx="637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589640" y="9360"/>
            <a:ext cx="63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714920" y="9360"/>
            <a:ext cx="63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842000" y="9360"/>
            <a:ext cx="619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4967280" y="9360"/>
            <a:ext cx="619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5092560" y="9360"/>
            <a:ext cx="637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5218200" y="9360"/>
            <a:ext cx="63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5343480" y="9360"/>
            <a:ext cx="637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5470560" y="9360"/>
            <a:ext cx="619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5595840" y="9360"/>
            <a:ext cx="619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5721480" y="9360"/>
            <a:ext cx="619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5846760" y="9360"/>
            <a:ext cx="63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5972040" y="9360"/>
            <a:ext cx="637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6097680" y="9360"/>
            <a:ext cx="63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6224760" y="9360"/>
            <a:ext cx="619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6350040" y="9360"/>
            <a:ext cx="619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475320" y="9360"/>
            <a:ext cx="619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600960" y="9360"/>
            <a:ext cx="63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726240" y="9360"/>
            <a:ext cx="63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1520" y="9360"/>
            <a:ext cx="637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78600" y="9360"/>
            <a:ext cx="619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04240" y="9360"/>
            <a:ext cx="615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229520" y="9360"/>
            <a:ext cx="63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54800" y="9360"/>
            <a:ext cx="637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80440" y="9360"/>
            <a:ext cx="63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05720" y="9360"/>
            <a:ext cx="63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32800" y="9360"/>
            <a:ext cx="619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600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0"/>
            <a:ext cx="76960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1676160" y="19047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8013600" y="0"/>
            <a:ext cx="63720" cy="68580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66240" y="0"/>
            <a:ext cx="63360" cy="68580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18520" y="0"/>
            <a:ext cx="63360" cy="68580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70800" y="0"/>
            <a:ext cx="63720" cy="68580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23440" y="0"/>
            <a:ext cx="63360" cy="68580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775720" y="0"/>
            <a:ext cx="63360" cy="68580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928000" y="0"/>
            <a:ext cx="63720" cy="68580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80640" y="0"/>
            <a:ext cx="63360" cy="68580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61320" y="0"/>
            <a:ext cx="63360" cy="68580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00120" y="0"/>
            <a:ext cx="7643880" cy="10666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rcRect l="0" t="0" r="83549" b="94517"/>
          <a:stretch/>
        </p:blipFill>
        <p:spPr>
          <a:xfrm>
            <a:off x="4952880" y="0"/>
            <a:ext cx="4191120" cy="10476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676520" y="-321120"/>
            <a:ext cx="7129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rcRect l="0" t="0" r="83549" b="94517"/>
          <a:stretch/>
        </p:blipFill>
        <p:spPr>
          <a:xfrm>
            <a:off x="8001000" y="6643800"/>
            <a:ext cx="1143000" cy="214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331480" y="6613560"/>
            <a:ext cx="7995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E8DA-093B-4669-9131-D02BF7EC1EA4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629400"/>
            <a:ext cx="8001000" cy="228600"/>
          </a:xfrm>
          <a:prstGeom prst="rect">
            <a:avLst/>
          </a:prstGeom>
          <a:solidFill>
            <a:srgbClr val="d0dff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1"/>
          </p:nvPr>
        </p:nvSpPr>
        <p:spPr>
          <a:xfrm>
            <a:off x="1523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February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504800" cy="665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086600" y="0"/>
            <a:ext cx="2057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0" t="0" r="83549" b="94517"/>
          <a:stretch/>
        </p:blipFill>
        <p:spPr>
          <a:xfrm>
            <a:off x="8531280" y="0"/>
            <a:ext cx="6127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057400" y="1828800"/>
            <a:ext cx="7086600" cy="7632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400" y="12240"/>
            <a:ext cx="64771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pic>
        <p:nvPicPr>
          <p:cNvPr id="111" name="3" descr=""/>
          <p:cNvPicPr/>
          <p:nvPr/>
        </p:nvPicPr>
        <p:blipFill>
          <a:blip r:embed="rId3"/>
          <a:stretch/>
        </p:blipFill>
        <p:spPr>
          <a:xfrm>
            <a:off x="3733920" y="3429000"/>
            <a:ext cx="3124080" cy="2967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6934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9933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800" y="209160"/>
            <a:ext cx="6781680" cy="2838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9933"/>
                </a:solidFill>
                <a:latin typeface="Verdana"/>
              </a:rPr>
              <a:t>ANALYSIS AND PROPOSED STRATEGIES FOR THE CLOTHING MANUFACTURING SMEs IN SPAIN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721680" y="6461280"/>
            <a:ext cx="30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Bari, February 4Th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520" y="-47880"/>
            <a:ext cx="7129440" cy="1190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 </a:t>
            </a: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GENERAL SCHEME FOR A RAPID RESPONSE SYSTEM 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320" y="1090440"/>
            <a:ext cx="8991360" cy="5538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71294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cc00"/>
                </a:solidFill>
                <a:latin typeface="Verdana"/>
              </a:rPr>
              <a:t>CHARACTERISTICS OF THE SYSTEM  (1/2)</a:t>
            </a:r>
            <a:endParaRPr b="1" lang="en-US" sz="32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44200" y="1987200"/>
            <a:ext cx="69217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ULTI-POSITION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2666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ROUP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342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 ON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4876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IR TRANSPORT OF GAR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41148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DAPTABLE MACHIN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00200" y="47520"/>
            <a:ext cx="7129440" cy="106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cc00"/>
                </a:solidFill>
                <a:latin typeface="Verdana"/>
              </a:rPr>
              <a:t>GENERAL CHARATERISTICS OF THE SYSTEM (2/2)</a:t>
            </a:r>
            <a:endParaRPr b="1" lang="en-US" sz="32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DEAL SYSTEM FOR WORKING WITH SMALL LOTS  (25 TO 300 GARME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3048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T IS MADE UP OF 8 WORK PLA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39625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CREMENTS THE OPERATIONAL RATE OF THE MACHINES BY 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50292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HE OPERATIVE SHOULD CARRY OUT UP TO 5  SUCCESSIV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29440" cy="641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MULTI-POSITION SYSTEM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44200" y="1676160"/>
            <a:ext cx="692172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ISTS OF 3 OR 4 MACHINES TO PERFORM DIFFERENT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3727440"/>
            <a:ext cx="7238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ACH OPERATIVE HAS A WORK PLACE ALLOWING AN EASY BALANCE AND DISTRIBUTION OF THE ASSEMBLY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520" y="473040"/>
            <a:ext cx="7410600" cy="641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LOCATION OF MACHINERY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Verdana"/>
              </a:rPr>
              <a:t>UNIT LAYOUT + HANG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889280"/>
            <a:ext cx="8763120" cy="4435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29440" cy="641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MUTI-POSITION SYSTEM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28600" y="1319040"/>
          <a:ext cx="8610480" cy="52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19040"/>
                    <a:ext cx="861048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29440" cy="641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GROUPWORK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676160" y="2214720"/>
            <a:ext cx="7086600" cy="14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MPROVES QUALITY: BY WORKING IN A TEAM AND EACH OPERATIVE CARRYING OUT SEVERAL FUNCTIONS THERE IS A CONTINUOUS REVISION OF THE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40384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HE MOTIVATION AND SATISFACTION CREATED BY THE GROUPWORK REDUCES ABSENTEEISM AND INCREASES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29440" cy="641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WORKING ON FOOT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76520" y="1142640"/>
            <a:ext cx="6921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HE PERSON HAS TO CARRY OUT THE WORK ON FOOT, THEREFORE HE/SHE CAN MOVE EASILY BETWEEN THE DIFFERENT MACHINES TO BE US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04920" y="3200400"/>
          <a:ext cx="54100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00400"/>
                    <a:ext cx="54100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5867280" y="3124080"/>
          <a:ext cx="2252880" cy="311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124080"/>
                    <a:ext cx="225288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-47880"/>
            <a:ext cx="7129440" cy="1190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ADAPTABLE ERGONOMIC MACHINERY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76520" y="2666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HE CONTROL PEDAL CAN BE EASILY OPERATED IN A VERTICAL POSITION WITHOUT TIRING THE P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12952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HE HEIGHT HAS BEEN DESIGNED SO THAT IT CAN BE EASILY AJUSTED BY ANY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724280" y="4087800"/>
          <a:ext cx="4114800" cy="23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087800"/>
                    <a:ext cx="411480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676520" y="4164120"/>
            <a:ext cx="307656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29440" cy="641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AIR TRANSPORT SYSTEM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76520" y="2069640"/>
            <a:ext cx="6921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ACH GARMENT GOES THROUGH THE PROCEEDURE INDIVIDU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3733920"/>
            <a:ext cx="7315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MPROVES THE FLOW OF THE GAR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227520"/>
            <a:ext cx="7129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cc00"/>
                </a:solidFill>
                <a:latin typeface="Verdana"/>
              </a:rPr>
              <a:t>ASINTEC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IVATE  NON PROFIT ORGAN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EATED IN 199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D BY BUSINESS PEOPLE FROM THE S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JECTIVE: TO HELP SMEs TO INCORPORATE INNO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29440" cy="641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AIR TRANSPORT SYSTEM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674720"/>
            <a:ext cx="8915400" cy="5031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520" y="473040"/>
            <a:ext cx="7129440" cy="641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RESULTS OBTAINED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1676520"/>
            <a:ext cx="66502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HIS SYSTEM IS IDEAL FOR PRODUCING SMALL LOTS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2819520"/>
            <a:ext cx="754380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dies Jackets  :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45-60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kirts: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20-35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louses: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15-25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resses: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25-45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520" y="-124200"/>
            <a:ext cx="7129440" cy="1190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 </a:t>
            </a: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IMPLANTATION IN A SPANISH SME 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25920" y="3394080"/>
          <a:ext cx="90360" cy="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920" y="3394080"/>
                    <a:ext cx="90360" cy="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371600" y="1055520"/>
            <a:ext cx="7620120" cy="5421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-124200"/>
            <a:ext cx="7129440" cy="1190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 </a:t>
            </a: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IMPLANTATION IN A SPANISH SME 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25920" y="3394080"/>
          <a:ext cx="90360" cy="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920" y="3394080"/>
                    <a:ext cx="90360" cy="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523880" y="1339920"/>
            <a:ext cx="7620120" cy="5289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3880" y="-76320"/>
            <a:ext cx="7129440" cy="119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 </a:t>
            </a: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COMPARATIVE WITH THE TRADITIONAL SYSTEM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219320" y="1295280"/>
            <a:ext cx="7924320" cy="5103720"/>
            <a:chOff x="1219320" y="1295280"/>
            <a:chExt cx="7924320" cy="5103720"/>
          </a:xfrm>
        </p:grpSpPr>
        <p:grpSp>
          <p:nvGrpSpPr>
            <p:cNvPr id="244" name=""/>
            <p:cNvGrpSpPr/>
            <p:nvPr/>
          </p:nvGrpSpPr>
          <p:grpSpPr>
            <a:xfrm>
              <a:off x="1219320" y="1295280"/>
              <a:ext cx="7924320" cy="5103720"/>
              <a:chOff x="1219320" y="1295280"/>
              <a:chExt cx="7924320" cy="5103720"/>
            </a:xfrm>
          </p:grpSpPr>
          <p:pic>
            <p:nvPicPr>
              <p:cNvPr id="2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19320" y="1295280"/>
                <a:ext cx="7924320" cy="510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 txBox="1"/>
              <p:nvPr/>
            </p:nvSpPr>
            <p:spPr>
              <a:xfrm>
                <a:off x="1219320" y="1295280"/>
                <a:ext cx="7924320" cy="510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2160" rIns="92160" tIns="46080" bIns="46080" anchor="t">
                <a:normAutofit/>
              </a:bodyPr>
              <a:p>
                <a:pPr marL="343080" indent="-343080">
                  <a:spcBef>
                    <a:spcPts val="601"/>
                  </a:spcBef>
                  <a:buClr>
                    <a:srgbClr val="ff9900"/>
                  </a:buClr>
                  <a:buSzPct val="75000"/>
                  <a:buFont typeface="Web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3704400" y="1845720"/>
              <a:ext cx="2505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a0000"/>
                  </a:solidFill>
                  <a:latin typeface="Times New Roman"/>
                </a:rPr>
                <a:t>RAPID RESPONSE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88640" y="3534480"/>
              <a:ext cx="2236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TRADITIONAL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733920" y="5562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Lo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306000" y="335124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2944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1" lang="en-US" sz="2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2752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 </a:t>
            </a: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RESULTS OBTAIN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52280" y="1521000"/>
          <a:ext cx="8763120" cy="495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1000"/>
                    <a:ext cx="87631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 rot="16260600">
            <a:off x="1066680" y="319824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90560" y="4495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593720" y="-76680"/>
            <a:ext cx="7321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NEW TECHNOLOGIES FOR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2286000"/>
            <a:ext cx="7010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Arial Black"/>
              </a:rPr>
              <a:t>RAPID RESPONSE SYSTEM FOR THE MANUFACTURING CLOTHING INDUST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520" y="-48600"/>
            <a:ext cx="7129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cc00"/>
                </a:solidFill>
                <a:latin typeface="Verdana"/>
              </a:rPr>
              <a:t>C-LMCLOTHING COMPANIES PROFILE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RE THAN 800 CLOTHING S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85% SUBCONTRACTORS (ONLY MANUFACTURE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5% COMERCIALIZE AND SELL THE PRODU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CONTRACTORS CHARACTERISTIC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5 EMPLOYEES ON AVE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IGH DEPENDENCE ON ITS SUPPLI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520" y="-47880"/>
            <a:ext cx="712944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cc00"/>
                </a:solidFill>
                <a:latin typeface="Verdana"/>
              </a:rPr>
              <a:t>ASINTEC MAIN WORK AREAS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19047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LEMENTATION OF QUALITY MANAGMENT SYSTEMS. ISO 9000:20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 FROM THE USUAL TYPES OF PRODUCTS TO NEW 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OPERATION BETWEEN FIRMS TO PERFORM NEW FUNCTION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APID RESPON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00200" y="473040"/>
            <a:ext cx="7129440" cy="641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THE PAST EXPERIENCE  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9907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G-SIZE LOTS OF GARMENTS WERE MANUFACTUR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DUCED NUMBER OF PRODUCT TYPES WERE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 TIMES WERE CONSIDERABLY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2895480"/>
            <a:ext cx="2667240" cy="2286000"/>
          </a:xfrm>
          <a:prstGeom prst="irregularSeal1">
            <a:avLst/>
          </a:prstGeom>
          <a:solidFill>
            <a:srgbClr val="cccc00"/>
          </a:solidFill>
          <a:ln w="9360">
            <a:solidFill>
              <a:srgbClr val="3366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35053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era for the clothing manufacturing S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218840"/>
            <a:ext cx="5257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THE ACTUAL MARKET DEMAND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5334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HIGHER DIVERSIT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ER QUALITY OF THE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INIMUN TIME-TO-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1752480"/>
            <a:ext cx="75438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int work with clothing manufacturers SMEs in S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fic research work with a group of Japanese experts in Spain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lysis of the changes the industry has suffered in past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Lead us to a conclusio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0200" y="-76320"/>
            <a:ext cx="7129440" cy="119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WHAT CAN WE SAY FROM OUR EXPERIENCE ...  ?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</p:spTree>
  </p:cSld>
  <p:transition spd="med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129440" cy="641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THE PRESENT CHALLENGE  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93348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encourage the firms to implement an strategy that could give them a chance of enhance its competitiveness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ing the quality of its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lementing flexible production ch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ing its lead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3524400"/>
            <a:ext cx="1981440" cy="1600200"/>
          </a:xfrm>
          <a:prstGeom prst="hexagon">
            <a:avLst>
              <a:gd name="adj" fmla="val 30956"/>
              <a:gd name="vf" fmla="val 115470"/>
            </a:avLst>
          </a:prstGeom>
          <a:solidFill>
            <a:srgbClr val="cccc00"/>
          </a:solidFill>
          <a:ln w="9360">
            <a:solidFill>
              <a:srgbClr val="33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ead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4362480"/>
            <a:ext cx="1981080" cy="1600200"/>
          </a:xfrm>
          <a:prstGeom prst="hexagon">
            <a:avLst>
              <a:gd name="adj" fmla="val 30951"/>
              <a:gd name="vf" fmla="val 115470"/>
            </a:avLst>
          </a:prstGeom>
          <a:solidFill>
            <a:srgbClr val="cccc00"/>
          </a:solidFill>
          <a:ln w="9360">
            <a:solidFill>
              <a:srgbClr val="33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00360" y="5181480"/>
            <a:ext cx="1981440" cy="1600200"/>
          </a:xfrm>
          <a:prstGeom prst="hexagon">
            <a:avLst>
              <a:gd name="adj" fmla="val 30956"/>
              <a:gd name="vf" fmla="val 115470"/>
            </a:avLst>
          </a:prstGeom>
          <a:solidFill>
            <a:srgbClr val="cccc00"/>
          </a:solidFill>
          <a:ln w="9360">
            <a:solidFill>
              <a:srgbClr val="33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4971960"/>
            <a:ext cx="838080" cy="533520"/>
          </a:xfrm>
          <a:prstGeom prst="upArrow">
            <a:avLst>
              <a:gd name="adj1" fmla="val 50000"/>
              <a:gd name="adj2" fmla="val 46431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5657760"/>
            <a:ext cx="838080" cy="533520"/>
          </a:xfrm>
          <a:prstGeom prst="upArrow">
            <a:avLst>
              <a:gd name="adj1" fmla="val 50000"/>
              <a:gd name="adj2" fmla="val 46431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191120"/>
            <a:ext cx="838080" cy="60948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55760" y="3600360"/>
            <a:ext cx="23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4000" spc="-1" strike="noStrike">
                <a:solidFill>
                  <a:srgbClr val="9a0000"/>
                </a:solidFill>
                <a:latin typeface="Monotype Corsiva"/>
              </a:rPr>
              <a:t>Minimi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5181480"/>
            <a:ext cx="221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a0000"/>
                </a:solidFill>
                <a:latin typeface="Monotype Corsiva"/>
              </a:rPr>
              <a:t>Maximi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56120" y="4346640"/>
            <a:ext cx="237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9a0000"/>
                </a:solidFill>
                <a:latin typeface="Monotype Corsiva"/>
              </a:rPr>
              <a:t>Potenti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743200" y="1143000"/>
            <a:ext cx="4191120" cy="4191120"/>
          </a:xfrm>
          <a:prstGeom prst="sun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00200" y="-76320"/>
            <a:ext cx="7129440" cy="119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A NEW PRODUCTION TECHNOLOGY: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479680"/>
            <a:ext cx="6629400" cy="87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Arial Black"/>
              </a:rPr>
              <a:t>RAPID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99"/>
                </a:solidFill>
                <a:latin typeface="Arial Black"/>
              </a:rPr>
              <a:t>MANUFACTUR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85800" y="5486400"/>
            <a:ext cx="67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T ....  A CHANGE MUST BE PERFORMED IN THE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-47880"/>
            <a:ext cx="7129440" cy="1190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cc00"/>
                </a:solidFill>
                <a:latin typeface="Verdana"/>
              </a:rPr>
              <a:t>OBJECTIVES OF THE CHANGE: </a:t>
            </a:r>
            <a:endParaRPr b="1" lang="en-US" sz="3600" spc="-1" strike="noStrike">
              <a:solidFill>
                <a:srgbClr val="cccc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3880" y="29714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HAT SYSTEM SHOULD MEET THE FOLLOWING REQUIREMEN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403848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CREASE PRODUCTIV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449568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DUCE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495288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DUCE RESPONS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54100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OVE QUALITY DURING MANUFACTURING PROCES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1447920"/>
            <a:ext cx="7238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O IMPLEMENT A MANUFACTURING SYSTEM BASED ON RAPID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5:28:37Z</dcterms:created>
  <dc:creator>Martha</dc:creator>
  <dc:description/>
  <dc:language>en-US</dc:language>
  <cp:lastModifiedBy>tecnopolis</cp:lastModifiedBy>
  <dcterms:modified xsi:type="dcterms:W3CDTF">2005-02-04T10:53:56Z</dcterms:modified>
  <cp:revision>121</cp:revision>
  <dc:subject/>
  <dc:title>Presentación de PowerPoint</dc:title>
</cp:coreProperties>
</file>