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50D-8F3C-4500-BC85-2FA44140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488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4C1-7B2E-4098-9DBC-F1E33C5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1FE-A59E-47EA-8E4A-D699D7B1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3488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C26-1F5D-4F1E-9B30-FF21DF4F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E61-4F54-4C89-AF39-C6C40AAD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CE8-0EE3-4779-B192-D681811F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3E1-7529-48FB-A2F6-0AE2442E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83A-5106-43C1-BA1D-FDCE358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751-D8BD-4416-9E0B-BAFC997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A1E-88FE-4B58-A7F3-799D4F3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3488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0AD-B30D-42E6-8744-3160C1B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488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B2-ECC7-4598-87B1-480A3FF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1tras2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3281400" cy="335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76D-A488-440D-A9D5-9278915747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ecnotessile</a:t>
            </a:r>
            <a:r>
              <a:rPr b="1" lang="it-IT" sz="2000" spc="-1" strike="noStrike">
                <a:solidFill>
                  <a:srgbClr val="4d4d4d"/>
                </a:solidFill>
                <a:latin typeface="Times New Roman"/>
              </a:rPr>
              <a:t> - </a:t>
            </a:r>
            <a:r>
              <a:rPr b="0" lang="it-IT" sz="2000" spc="-1" strike="noStrike">
                <a:solidFill>
                  <a:srgbClr val="4d4d4d"/>
                </a:solidFill>
                <a:latin typeface="Times New Roman"/>
              </a:rPr>
              <a:t>Società Nazionale di Ricerca Tecn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685800"/>
            <a:ext cx="7467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cnotessil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cietà Nazionale di Ricerca Tecnologica r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del Gelso, 13 - 59100 P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tecnotex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tecnotex@tecnotex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Aree di competenz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aree di competenza di Tecnotessile sono distribuite tra le seguenti divis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visione Prototipi e Auto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visione Tecnologie Chim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visione Tecnologie per l’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visione Elettronica e Controllo di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Divisione Servizi alle Imprese e Com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La struttur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Piani Nazionali di Ricerca e Formazione per il settore T/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Tema 5: Sistemi di controllo e regolazione innovativi nei processi di finissaggio tes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Tema 6: Produzione di materiali compositi a base tessile per applicazioni divers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Tema 12: Recupero, riciclo e valorizzazione dei materiali della catena tes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00"/>
                </a:solidFill>
                <a:latin typeface="Arial"/>
              </a:rPr>
              <a:t>Tema 1: Sistemi innovativi per la filatura di fibre discontin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6600"/>
                </a:solidFill>
                <a:latin typeface="Arial"/>
              </a:rPr>
              <a:t>Tema 11: "Sviluppo di tecniche innovative per la riduzione del rumore nell’ambiente industriale tessile (filatura e tessi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Progetto Nazionale di Ricerca “Art. 10 L. 46/82”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cnotessile partecipa con gli altri 6 membri del consorzio TIP al proget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336600"/>
                </a:solidFill>
                <a:latin typeface="Arial"/>
              </a:rPr>
              <a:t>Materie prime, processi e tecnologie per la realizzazione di prodotti tessili innovativ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00"/>
                </a:solidFill>
                <a:latin typeface="Arial"/>
              </a:rPr>
              <a:t>Obiettivo: modernizzare le tecnologie tessili del distretto prat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nee di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1.1 - Studio impianto pilota di cardatura e fila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1.2 - Realizzaz. impianto pilota cardatura e fil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1.3 - Studio di trattamenti chimici e/o biochim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1.4 - Studio, prog. e realizzazione di filati innov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2.1- Linea pilota spun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2.2 - Superfici tessili inno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3.1- Nobilitaz. superfici tessili tramite radi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3.2 - Nuovi trattamenti di nobilitazione dei tessuti di tipo chi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00"/>
                </a:solidFill>
                <a:latin typeface="Arial"/>
              </a:rPr>
              <a:t>L. 3.3 - Realizzazione di tessuti fin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Progetto Nazionale di Ricerca “Art. 10 L. 46/82”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99"/>
                </a:solidFill>
                <a:latin typeface="Arial"/>
              </a:rPr>
              <a:t>Progetti europei di R&amp;D </a:t>
            </a:r>
            <a:br>
              <a:rPr sz="4000"/>
            </a:br>
            <a:r>
              <a:rPr b="1" lang="it-IT" sz="2400" spc="-1" strike="noStrike">
                <a:solidFill>
                  <a:srgbClr val="cc0099"/>
                </a:solidFill>
                <a:latin typeface="Arial"/>
              </a:rPr>
              <a:t>(periodo 2002-20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</a:t>
            </a:r>
            <a:r>
              <a:rPr b="0" lang="en-GB" sz="2300" spc="-1" strike="noStrike">
                <a:solidFill>
                  <a:srgbClr val="cc0099"/>
                </a:solidFill>
                <a:latin typeface="Arial"/>
              </a:rPr>
              <a:t>Acceleration of Textile Processes by Ultrasound Technology - </a:t>
            </a:r>
            <a:r>
              <a:rPr b="1" lang="en-GB" sz="2300" spc="-1" strike="noStrike">
                <a:solidFill>
                  <a:srgbClr val="cc0099"/>
                </a:solidFill>
                <a:latin typeface="Arial"/>
              </a:rPr>
              <a:t>ULTRATEC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TREP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ecific Targeted Research Project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(6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ema: Utilizzo della tecnologia ad ultrasuoni per i trattamenti di finissaggio e nella lavorazione di tessili diversi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</a:t>
            </a:r>
            <a:r>
              <a:rPr b="0" lang="en-US" sz="2300" spc="-1" strike="noStrike">
                <a:solidFill>
                  <a:srgbClr val="cc0099"/>
                </a:solidFill>
                <a:latin typeface="Arial"/>
              </a:rPr>
              <a:t>High Performance Industrial Protein Matrices through Bioprocessing</a:t>
            </a: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- 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HYPERMAX</a:t>
            </a: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TREP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pecific Targeted Research Project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(6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ema: Sviluppo di processi tessili basati su biotecnolog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99"/>
                </a:solidFill>
                <a:latin typeface="Arial"/>
              </a:rPr>
              <a:t>Progetti europei di R&amp;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153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</a:t>
            </a:r>
            <a:r>
              <a:rPr b="0" lang="en-GB" sz="2300" spc="-1" strike="noStrike">
                <a:solidFill>
                  <a:srgbClr val="cc0099"/>
                </a:solidFill>
                <a:latin typeface="Arial"/>
              </a:rPr>
              <a:t>Network of intermediaries to foster transnational research &amp; innovation in smes in the fashion industry system- </a:t>
            </a:r>
            <a:r>
              <a:rPr b="1" lang="en-GB" sz="2300" spc="-1" strike="noStrike">
                <a:solidFill>
                  <a:srgbClr val="cc0099"/>
                </a:solidFill>
                <a:latin typeface="Arial"/>
              </a:rPr>
              <a:t>FASHION-NET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-ordination Action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(6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ema: Network per il confronto e la formazione di centri di ricerca e servizio del settore T/A a livello europe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99"/>
                </a:solidFill>
                <a:latin typeface="Arial"/>
              </a:rPr>
              <a:t>Progetti europei di R&amp;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Design of Innovative Non-wovens to be used as Insole in functional Shoes - 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DINI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RAFT Project (5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ema: Introduzione di nuove tecnologie basate sulla modellazione matematica e la simulazione numerica nell’industria calzaturier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 Thematic Network on Industrial Liquid Effluents - 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ILE</a:t>
            </a: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hematic Network (5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umentare la conoscenza nel settore del trattamento dei reflui liquidi industriali per individuare le migliori tecnologie di recup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99"/>
                </a:solidFill>
                <a:latin typeface="Arial"/>
              </a:rPr>
              <a:t>Progetti europei di R&amp;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Titolo: "Large-Scale Synthesis of a New Super Oxidant Material by Recycling Ferrous Sulfate - </a:t>
            </a:r>
            <a:r>
              <a:rPr b="1" lang="it-IT" sz="2300" spc="-1" strike="noStrike">
                <a:solidFill>
                  <a:srgbClr val="cc0099"/>
                </a:solidFill>
                <a:latin typeface="Arial"/>
              </a:rPr>
              <a:t>LAFEROX</a:t>
            </a:r>
            <a:r>
              <a:rPr b="0" lang="it-IT" sz="2300" spc="-1" strike="noStrike">
                <a:solidFill>
                  <a:srgbClr val="cc0099"/>
                </a:solidFill>
                <a:latin typeface="Arial"/>
              </a:rPr>
              <a:t>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3333cc"/>
                </a:solidFill>
                <a:latin typeface="Arial"/>
              </a:rPr>
              <a:t>Tipo di progetto:</a:t>
            </a:r>
            <a:r>
              <a:rPr b="0" i="1" lang="it-IT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hared Cost RTD Project (5F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ema: Preparazione e sperimentazione dell’impiego di un nuovo prodotto ossidante in vari settori, compreso il trattamento delle acque reflue tessili e conciari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Caratteristiche della socie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14800" y="9907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nomi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cnotessile - Società Nazionale di Ricerca Tecnologica r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dir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a del Gelso, 13 - 59100 P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l. 0574-634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x 0574-6340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no fon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res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nato Sans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ir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litario N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3505320"/>
          <a:ext cx="3505320" cy="23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05320"/>
                    <a:ext cx="350532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Caratteristiche della socie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33720"/>
            <a:ext cx="8915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ff"/>
                </a:solidFill>
                <a:latin typeface="Arial"/>
              </a:rPr>
              <a:t>Mission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icerca e innovazione tecnologica nel tessile e nel meccanotess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I so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N PAOLO IMI  S.p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kin 2000 sc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io Boselli Holding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ntoni I.T.C.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TOROSSI ITC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TEC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nificio Faliero Sarti&amp;Fi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NATI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ROTTO RIMAR S.r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ificio e Canapificio Nazionale  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.BO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latura di Grignasco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rico Pecci &amp; C. S.p.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finizione B.P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914400"/>
            <a:ext cx="4343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TEMA HOLDING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if. G. Marzotto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lchierani System S.a.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nificio Bartolini Sestilio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iancalani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cas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ip S.n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intex S.r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S Data System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lchierani Textile Automation S.p.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carde S.p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GI Service  S.r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Attivi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Tecnotessile svolge attività di consulenza tecnologica alle impre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ree di competenz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3333cc"/>
                </a:solidFill>
                <a:latin typeface="Arial"/>
              </a:rPr>
              <a:t>tecnologia tessi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dalle materie prime ai prodotti finit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3333cc"/>
                </a:solidFill>
                <a:latin typeface="Arial"/>
              </a:rPr>
              <a:t>tecnologie per la modificazione dei material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funzionalizzazione delle superfici, processi chim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3333cc"/>
                </a:solidFill>
                <a:latin typeface="Arial"/>
              </a:rPr>
              <a:t>progettazione meccanic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i dispositivi, macchine e sistemi, per sviluppo di macchine e automazione di proc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Attivi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76"/>
              </a:spcBef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la progettazione e gestione di proget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ricerca applicata e trasferimento tecn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mazione di tecnici e ricercato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per il settore tessile e colleg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sperimentazione di macchine e processi tessi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n il supporto interno dei laboratori tecnologico e chi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progetti di internazion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Attivi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l'integrazione e lo sviluppo di tecnologie elettroniche e informatich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e applicazioni CAD, l'automazione e il controllo di processi produttivi e di mac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prove di laboratorio su prodotti tessi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fibre, filati e tess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l'informazione tecnico-scientifica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conomica e di mercato, utilizzando sia la propria biblioteca che i collegamenti con banche dati mon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00"/>
                </a:solidFill>
                <a:latin typeface="Arial"/>
              </a:rPr>
              <a:t>Attivit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onsulenza per l'implementazione di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Sistemi Qualità e Gestione Ambi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condo le norme ISO 9000 e ISO 140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o sviluppo di progetti di R&amp;D per il trattamento ed il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riuso delle acque reflue industri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nformazione ed il supporto alle imprese per la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presentazione di domande di finanzi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n ambito nazionale e della UE, per lo svolgimento di progetti di ricer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8"/>
            </a:gs>
            <a:gs pos="50000">
              <a:srgbClr val="d3f7ec"/>
            </a:gs>
            <a:gs pos="100000">
              <a:srgbClr val="2626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00"/>
                </a:solidFill>
                <a:latin typeface="Arial"/>
              </a:rPr>
              <a:t>Il Sistema Qualità di Tecnotessile:</a:t>
            </a:r>
            <a:br>
              <a:rPr sz="3600"/>
            </a:br>
            <a:r>
              <a:rPr b="1" lang="it-IT" sz="3600" spc="-1" strike="noStrike">
                <a:solidFill>
                  <a:srgbClr val="336600"/>
                </a:solidFill>
                <a:latin typeface="Arial"/>
              </a:rPr>
              <a:t>la nostra professionalità al servizio delle impre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2001 Certificazione UNI EN ISO 9001: 2000 per i seguenti campi applica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Progettazione e sviluppo di attività di ricerca applicata nei seguenti settori: tessile, meccanico, dell’automazione e dei materi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Erogazione di servizi di prove di laboratorio chimico per il settore tess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Erogazione di servizi di consulenza per lo sviluppo di sistemi qua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Arial"/>
              </a:rPr>
              <a:t>Erogazione di servizi di formazione per settore tessile e meccanotessile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5:54:33Z</dcterms:created>
  <dc:creator>Gianluca Ciardelli</dc:creator>
  <dc:description/>
  <dc:language>en-US</dc:language>
  <cp:lastModifiedBy>ILARIA</cp:lastModifiedBy>
  <cp:lastPrinted>2001-11-12T16:27:44Z</cp:lastPrinted>
  <dcterms:modified xsi:type="dcterms:W3CDTF">2004-10-21T16:45:48Z</dcterms:modified>
  <cp:revision>301</cp:revision>
  <dc:subject/>
  <dc:title>Integrated water management in textile industry</dc:title>
</cp:coreProperties>
</file>