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40C-9256-4130-A737-55C8E908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5485-A939-4E33-A0AD-D332B114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DC6-636E-465C-961C-1B7F1A82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14E-486D-4EE3-B9A9-7916297D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CB73-BC95-48F3-8384-ABE9927A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A3F4-A592-47E8-A9B8-BB32D249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886A-8132-4731-AE95-676ECCD8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FCE1-B43F-44B8-816E-915BBA7B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EE19-FAEB-4649-81FE-93D5F72E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08000" y="274320"/>
            <a:ext cx="677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5C71-D29B-4380-AC9E-268081A7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67FF-A614-4E49-A836-0D2EE4AA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4FD-766B-4DF0-84F0-A462517E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245A-57EA-402B-8558-2BD51228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D176-CCF2-4913-80B9-A13C860E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E407-37D1-4517-9566-573F5386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B4FE-7191-4208-AD3B-DE4EB6A3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8E14-15B0-459C-9CA6-6AB8CCF4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A83-6884-4D90-A64F-C614FA09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E70-1CB0-4214-B970-C3D0146C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D95-2FB1-48C2-8298-C178E7A1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08000" y="274320"/>
            <a:ext cx="677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FC6-804B-4955-B3EB-2F4551BD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CA4-36E2-4D8B-A37E-489026FD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FE4-06BA-4050-9E80-E22B6128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226-6FA6-461E-93A4-C4E96E84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AA24-3116-4625-AB4A-D156D11BC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4080" y="31680"/>
            <a:ext cx="1446120" cy="65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6227640" y="115920"/>
          <a:ext cx="865440" cy="45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115920"/>
                    <a:ext cx="8654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7013520" y="331920"/>
          <a:ext cx="2041560" cy="14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3520" y="331920"/>
                    <a:ext cx="20415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5478480" y="133200"/>
            <a:ext cx="671400" cy="441360"/>
          </a:xfrm>
          <a:prstGeom prst="rect">
            <a:avLst/>
          </a:prstGeom>
          <a:ln w="0">
            <a:noFill/>
          </a:ln>
        </p:spPr>
      </p:pic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EC7F-29B9-45CA-A458-2683E67C6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6237360"/>
            <a:ext cx="671760" cy="4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933480" y="6235560"/>
          <a:ext cx="865080" cy="4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3480" y="6235560"/>
                    <a:ext cx="8650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795320" y="6566040"/>
          <a:ext cx="2041560" cy="14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5320" y="6566040"/>
                    <a:ext cx="20415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info@fashionnet.org" TargetMode="External"/><Relationship Id="rId2" Type="http://schemas.openxmlformats.org/officeDocument/2006/relationships/hyperlink" Target="mailto:info@fashionnet.org" TargetMode="External"/><Relationship Id="rId3" Type="http://schemas.openxmlformats.org/officeDocument/2006/relationships/hyperlink" Target="mailto:info@fashionnet.org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shionnet.org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56000" y="217440"/>
            <a:ext cx="4176720" cy="191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3130560"/>
            <a:ext cx="7921440" cy="825480"/>
          </a:xfrm>
          <a:prstGeom prst="rect">
            <a:avLst/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di Intermediari per la ricerca transnazionale e l’innovazione nelle PMI del sistema m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501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Fashio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9280" y="556272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ari, 4 febbraio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467800" y="914400"/>
            <a:ext cx="4455720" cy="4291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ER ULTERIORI INFORMA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3505320"/>
            <a:ext cx="43434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CNOTESSILE – Enrico Ventur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ia del Gelso,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59100 P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l. +39 0574 6340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s@tecnotex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0720" y="1547640"/>
            <a:ext cx="5417280" cy="161856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ordin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PI – Istituto per la Promozione Indust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iale Maresciallo Pilsudski 124 – 00197 R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l. +39 06 80972 519/5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info@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fashionnet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3505320"/>
            <a:ext cx="350532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TER – Lidia Castagn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ia Andrea Costa,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41012 Carpi (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l. +39 059 681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diac@citer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181480"/>
            <a:ext cx="4038480" cy="1524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RE -  Annalisa Ceccare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.zza G. Marconi,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00144 R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l. +39 06 59118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ccarelli@apre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064360" cy="606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557360"/>
            <a:ext cx="68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6° Programma Quadro dell’UE (FP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637000"/>
            <a:ext cx="7419960" cy="504720"/>
          </a:xfrm>
          <a:prstGeom prst="rect">
            <a:avLst/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pping up economic and  technological intelligence (ET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4749840"/>
            <a:ext cx="7416720" cy="431640"/>
          </a:xfrm>
          <a:prstGeom prst="rect">
            <a:avLst/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on Action (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5550120"/>
            <a:ext cx="7489800" cy="580680"/>
          </a:xfrm>
          <a:prstGeom prst="rect">
            <a:avLst/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omuovere e supportare la strutturazione di reti e il coordinamento della ricerca e dell’innovazione a livello nazionale, regionale ed europe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3484800"/>
            <a:ext cx="7421760" cy="580680"/>
          </a:xfrm>
          <a:prstGeom prst="rect">
            <a:avLst/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ribuire alla partecipazione delle PMI nel Sesto Programma Quadro, in particolare negli integrated projects (IP) e nei networks of excellence (NoE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-159840" y="3193200"/>
            <a:ext cx="1655640" cy="39888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biet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196200" y="5244840"/>
            <a:ext cx="1728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tru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41360"/>
            <a:ext cx="7740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62864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8748720" y="4436640"/>
            <a:ext cx="0" cy="2087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6453360"/>
            <a:ext cx="2808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71640" y="1482840"/>
            <a:ext cx="7086600" cy="4927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179280" y="6021360"/>
            <a:ext cx="2232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4750"/>
              <a:gd name="adj5" fmla="val -114842"/>
              <a:gd name="adj6" fmla="val 206189"/>
            </a:avLst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: IPI (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E – CITER  TECNOTESS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85080" y="3645000"/>
            <a:ext cx="1079640" cy="45900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-41472"/>
              <a:gd name="adj5" fmla="val 244199"/>
              <a:gd name="adj6" fmla="val -165865"/>
            </a:avLst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IA: INCD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75640" y="2755800"/>
            <a:ext cx="1081080" cy="45900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-23787"/>
              <a:gd name="adj5" fmla="val 132990"/>
              <a:gd name="adj6" fmla="val -83819"/>
            </a:avLst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UANIA: L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765000"/>
            <a:ext cx="8569440" cy="5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PARTNERS DE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3357720"/>
            <a:ext cx="1512720" cy="550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9694"/>
              <a:gd name="adj5" fmla="val 195685"/>
              <a:gd name="adj6" fmla="val 218768"/>
            </a:avLst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: ANVAR IC&amp;D - IF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4508640"/>
            <a:ext cx="1513080" cy="45900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117629"/>
              <a:gd name="adj5" fmla="val 200939"/>
              <a:gd name="adj6" fmla="val 180041"/>
            </a:avLst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IN: ADEI  AITEX – ASINT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2251080"/>
            <a:ext cx="1728720" cy="45900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117171"/>
              <a:gd name="adj5" fmla="val 440277"/>
              <a:gd name="adj6" fmla="val 163435"/>
            </a:avLst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ZECH REPUBLIC: INNO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956720" y="5445000"/>
            <a:ext cx="914400" cy="459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944"/>
              <a:gd name="adj5" fmla="val 53444"/>
              <a:gd name="adj6" fmla="val -116291"/>
            </a:avLst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KEY: KOSG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6200640"/>
            <a:ext cx="1944720" cy="45900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111671"/>
              <a:gd name="adj5" fmla="val -82444"/>
              <a:gd name="adj6" fmla="val 142527"/>
            </a:avLst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: CLOTEFI - EOMM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0" y="5157720"/>
          <a:ext cx="449280" cy="2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5157720"/>
                    <a:ext cx="4492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771640" y="5300640"/>
          <a:ext cx="432000" cy="28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5300640"/>
                    <a:ext cx="4320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408480" y="4297320"/>
          <a:ext cx="442800" cy="28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08480" y="4297320"/>
                    <a:ext cx="44280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716360" y="4151160"/>
          <a:ext cx="428760" cy="285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16360" y="4151160"/>
                    <a:ext cx="42876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96000" y="4653000"/>
          <a:ext cx="446040" cy="28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96000" y="4653000"/>
                    <a:ext cx="4460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gradFill rotWithShape="0">
            <a:gsLst>
              <a:gs pos="0">
                <a:srgbClr val="6666ff">
                  <a:alpha val="70196"/>
                </a:srgbClr>
              </a:gs>
              <a:gs pos="50000">
                <a:srgbClr val="fefefe"/>
              </a:gs>
              <a:gs pos="100000">
                <a:srgbClr val="6666ff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630760" y="3213000"/>
          <a:ext cx="453960" cy="289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630760" y="3213000"/>
                    <a:ext cx="45396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5589720"/>
          <a:ext cx="446040" cy="276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638680" y="5589720"/>
                    <a:ext cx="4460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16"/>
          <a:stretch/>
        </p:blipFill>
        <p:spPr>
          <a:xfrm>
            <a:off x="6659640" y="5516640"/>
            <a:ext cx="417600" cy="284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1341360"/>
            <a:ext cx="7956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76520" y="765000"/>
            <a:ext cx="5640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LI OBIETTIVI DE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847520"/>
            <a:ext cx="5929200" cy="1191240"/>
          </a:xfrm>
          <a:prstGeom prst="rect">
            <a:avLst/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lanciare la competitività delle PMI del sistema moda attraverso innovazione e rice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3326040"/>
            <a:ext cx="4105080" cy="825480"/>
          </a:xfrm>
          <a:prstGeom prst="rect">
            <a:avLst/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cilitare l’accesso delle PMI al 6°P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3646440"/>
            <a:ext cx="4244760" cy="1191240"/>
          </a:xfrm>
          <a:prstGeom prst="rect">
            <a:avLst/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muovere la cooperazione e la condivisione delle conosc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5152680"/>
            <a:ext cx="5689440" cy="1191240"/>
          </a:xfrm>
          <a:prstGeom prst="rect">
            <a:avLst/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107932" dir="135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nsolidare i network e le partnership tra intermediari e cluster di PMI all’interno della nuova Europa allarg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341360"/>
            <a:ext cx="774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749160"/>
            <a:ext cx="7772400" cy="520560"/>
          </a:xfrm>
          <a:prstGeom prst="flowChartProcess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 ATTIVITA’ DEL PROGETTO IN NUM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133720"/>
            <a:ext cx="2590920" cy="459720"/>
          </a:xfrm>
          <a:prstGeom prst="rect">
            <a:avLst/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fer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1981080"/>
            <a:ext cx="2768760" cy="825480"/>
          </a:xfrm>
          <a:prstGeom prst="rect">
            <a:avLst/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novation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3384720"/>
            <a:ext cx="2590920" cy="1191240"/>
          </a:xfrm>
          <a:prstGeom prst="rect">
            <a:avLst/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89808" dir="4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8 Azioni di formazione sul 6°P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505320"/>
            <a:ext cx="2743200" cy="825480"/>
          </a:xfrm>
          <a:prstGeom prst="rect">
            <a:avLst/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92520" dir="11762236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winning Semin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5257800"/>
            <a:ext cx="2590920" cy="459720"/>
          </a:xfrm>
          <a:prstGeom prst="rect">
            <a:avLst/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155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u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efefe">
                  <a:alpha val="90196"/>
                </a:srgbClr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1 Scambi di personale esp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341360"/>
            <a:ext cx="774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762120"/>
            <a:ext cx="7427880" cy="498960"/>
          </a:xfrm>
          <a:prstGeom prst="flowChartProcess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’IMPATTO DEL PROGETTO (IN NUME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523880"/>
            <a:ext cx="3743280" cy="1557000"/>
          </a:xfrm>
          <a:prstGeom prst="rect">
            <a:avLst/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meno 33 P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involte in proposte di progetto nell’ambito del RTD 6°P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3629160"/>
            <a:ext cx="3743280" cy="1557000"/>
          </a:xfrm>
          <a:prstGeom prst="rect">
            <a:avLst/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77353" dir="56247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lmeno 108 PMI o organizzazioni intermediarie coinvolte ne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winning semin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61080" y="4724280"/>
            <a:ext cx="3743280" cy="825480"/>
          </a:xfrm>
          <a:prstGeom prst="rect">
            <a:avLst/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meno 11000 accessi al s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5734080"/>
            <a:ext cx="3743280" cy="825480"/>
          </a:xfrm>
          <a:prstGeom prst="rect">
            <a:avLst/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meno 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ry sul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2492280"/>
            <a:ext cx="3743280" cy="825480"/>
          </a:xfrm>
          <a:prstGeom prst="rect">
            <a:avLst/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meno 6000 PMI informate del 6°P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341360"/>
            <a:ext cx="774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631800"/>
            <a:ext cx="7848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Il progetto è organizzato per Work Packages (WP)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6560" y="359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484280"/>
            <a:ext cx="3095640" cy="609480"/>
          </a:xfrm>
          <a:prstGeom prst="borderCallout1">
            <a:avLst>
              <a:gd name="adj1" fmla="val 18750"/>
              <a:gd name="adj2" fmla="val -8333"/>
              <a:gd name="adj3" fmla="val 271875"/>
              <a:gd name="adj4" fmla="val 108768"/>
            </a:avLst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P1 – Information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1916280"/>
            <a:ext cx="2952720" cy="609480"/>
          </a:xfrm>
          <a:prstGeom prst="borderCallout1">
            <a:avLst>
              <a:gd name="adj1" fmla="val 18750"/>
              <a:gd name="adj2" fmla="val -8333"/>
              <a:gd name="adj3" fmla="val 197916"/>
              <a:gd name="adj4" fmla="val -17527"/>
            </a:avLst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P2 – Co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 Network Conso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3429000"/>
            <a:ext cx="2232000" cy="609480"/>
          </a:xfrm>
          <a:prstGeom prst="borderCallout1">
            <a:avLst>
              <a:gd name="adj1" fmla="val 18750"/>
              <a:gd name="adj2" fmla="val -8333"/>
              <a:gd name="adj3" fmla="val 20314"/>
              <a:gd name="adj4" fmla="val -40328"/>
            </a:avLst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91658" dir="878234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P3 - Studies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5105520"/>
            <a:ext cx="2808000" cy="609480"/>
          </a:xfrm>
          <a:prstGeom prst="borderCallout1">
            <a:avLst>
              <a:gd name="adj1" fmla="val 18750"/>
              <a:gd name="adj2" fmla="val -8333"/>
              <a:gd name="adj3" fmla="val -191925"/>
              <a:gd name="adj4" fmla="val -13115"/>
            </a:avLst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P4 – Specif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hops &amp;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562720"/>
            <a:ext cx="2498760" cy="609480"/>
          </a:xfrm>
          <a:prstGeom prst="borderCallout1">
            <a:avLst>
              <a:gd name="adj1" fmla="val 18750"/>
              <a:gd name="adj2" fmla="val -8333"/>
              <a:gd name="adj3" fmla="val -207550"/>
              <a:gd name="adj4" fmla="val 106097"/>
            </a:avLst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P5 – Trans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4437000"/>
            <a:ext cx="2158920" cy="609840"/>
          </a:xfrm>
          <a:prstGeom prst="borderCallout1">
            <a:avLst>
              <a:gd name="adj1" fmla="val 18750"/>
              <a:gd name="adj2" fmla="val -8333"/>
              <a:gd name="adj3" fmla="val -72657"/>
              <a:gd name="adj4" fmla="val 136250"/>
            </a:avLst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91658" dir="195823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P6 –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924280"/>
            <a:ext cx="2160720" cy="609480"/>
          </a:xfrm>
          <a:prstGeom prst="borderCallout1">
            <a:avLst>
              <a:gd name="adj1" fmla="val 18750"/>
              <a:gd name="adj2" fmla="val -8333"/>
              <a:gd name="adj3" fmla="val 92708"/>
              <a:gd name="adj4" fmla="val 136004"/>
            </a:avLst>
          </a:prstGeom>
          <a:gradFill rotWithShape="0">
            <a:gsLst>
              <a:gs pos="0">
                <a:srgbClr val="fefefe">
                  <a:alpha val="90196"/>
                </a:srgbClr>
              </a:gs>
              <a:gs pos="100000">
                <a:srgbClr val="ff0000"/>
              </a:gs>
            </a:gsLst>
            <a:lin ang="13500000"/>
          </a:gradFill>
          <a:ln w="0">
            <a:noFill/>
          </a:ln>
          <a:effectLst>
            <a:outerShdw dist="91658" dir="201765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P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85160" y="3332160"/>
            <a:ext cx="1877040" cy="1008720"/>
          </a:xfrm>
          <a:prstGeom prst="rect">
            <a:avLst/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3c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908000" y="836640"/>
            <a:ext cx="518508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ASHION NET”-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65360" y="31575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1925640"/>
            <a:ext cx="8389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33480" y="2017800"/>
            <a:ext cx="27468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49240" y="5576760"/>
            <a:ext cx="146160" cy="103320"/>
          </a:xfrm>
          <a:prstGeom prst="triangle">
            <a:avLst>
              <a:gd name="adj" fmla="val 50000"/>
            </a:avLst>
          </a:prstGeom>
          <a:solidFill>
            <a:srgbClr val="ffaa00"/>
          </a:solidFill>
          <a:ln w="6480">
            <a:solidFill>
              <a:srgbClr val="ff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5715000"/>
            <a:ext cx="1523880" cy="42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(1</a:t>
            </a:r>
            <a:r>
              <a:rPr b="1" lang="en-US" sz="1400" spc="-1" strike="noStrike" baseline="30000">
                <a:solidFill>
                  <a:srgbClr val="003399"/>
                </a:solidFill>
                <a:latin typeface="Arial"/>
              </a:rPr>
              <a:t>°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maggio 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284120" y="2852640"/>
            <a:ext cx="6651000" cy="542880"/>
            <a:chOff x="1284120" y="2852640"/>
            <a:chExt cx="6651000" cy="542880"/>
          </a:xfrm>
        </p:grpSpPr>
        <p:sp>
          <p:nvSpPr>
            <p:cNvPr id="182" name=""/>
            <p:cNvSpPr/>
            <p:nvPr/>
          </p:nvSpPr>
          <p:spPr>
            <a:xfrm>
              <a:off x="1284120" y="2867760"/>
              <a:ext cx="6600600" cy="526680"/>
            </a:xfrm>
            <a:custGeom>
              <a:avLst/>
              <a:gdLst>
                <a:gd name="textAreaLeft" fmla="*/ 0 w 6600600"/>
                <a:gd name="textAreaRight" fmla="*/ 6600960 w 6600600"/>
                <a:gd name="textAreaTop" fmla="*/ 0 h 526680"/>
                <a:gd name="textAreaBottom" fmla="*/ 527040 h 52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7" y="0"/>
                  </a:lnTo>
                  <a:lnTo>
                    <a:pt x="21600" y="10800"/>
                  </a:lnTo>
                  <a:lnTo>
                    <a:pt x="19547" y="21600"/>
                  </a:lnTo>
                  <a:lnTo>
                    <a:pt x="0" y="21600"/>
                  </a:lnTo>
                  <a:lnTo>
                    <a:pt x="2053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6048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03560" y="2852640"/>
              <a:ext cx="6631560" cy="542880"/>
            </a:xfrm>
            <a:custGeom>
              <a:avLst/>
              <a:gdLst/>
              <a:ahLst/>
              <a:rect l="l" t="t" r="r" b="b"/>
              <a:pathLst>
                <a:path w="1507" h="648">
                  <a:moveTo>
                    <a:pt x="0" y="0"/>
                  </a:moveTo>
                  <a:lnTo>
                    <a:pt x="1340" y="0"/>
                  </a:lnTo>
                  <a:lnTo>
                    <a:pt x="1507" y="325"/>
                  </a:lnTo>
                  <a:lnTo>
                    <a:pt x="1340" y="64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366b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174160" y="5616720"/>
            <a:ext cx="145800" cy="102960"/>
          </a:xfrm>
          <a:prstGeom prst="triangle">
            <a:avLst>
              <a:gd name="adj" fmla="val 50000"/>
            </a:avLst>
          </a:prstGeom>
          <a:solidFill>
            <a:srgbClr val="ff960c"/>
          </a:solidFill>
          <a:ln w="6480">
            <a:solidFill>
              <a:srgbClr val="ff9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912960" y="1700280"/>
            <a:ext cx="7359480" cy="263160"/>
            <a:chOff x="912960" y="1700280"/>
            <a:chExt cx="7359480" cy="263160"/>
          </a:xfrm>
        </p:grpSpPr>
        <p:sp>
          <p:nvSpPr>
            <p:cNvPr id="186" name=""/>
            <p:cNvSpPr/>
            <p:nvPr/>
          </p:nvSpPr>
          <p:spPr>
            <a:xfrm>
              <a:off x="912960" y="1702080"/>
              <a:ext cx="27576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96280" y="1700280"/>
              <a:ext cx="27576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76360" y="1700280"/>
              <a:ext cx="27576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56440" y="1700280"/>
              <a:ext cx="27612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6520" y="1700280"/>
              <a:ext cx="27576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16600" y="1700280"/>
              <a:ext cx="27576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88760" y="1700280"/>
              <a:ext cx="27576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52280" y="1700280"/>
              <a:ext cx="27612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20480" y="1700280"/>
              <a:ext cx="27576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00560" y="1702080"/>
              <a:ext cx="31320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17360" y="1702080"/>
              <a:ext cx="31320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21560" y="1702080"/>
              <a:ext cx="33588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38360" y="1702080"/>
              <a:ext cx="33588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1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79280" y="1702080"/>
              <a:ext cx="33588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08320" y="1702080"/>
              <a:ext cx="33588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7000" y="1702080"/>
              <a:ext cx="33588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53800" y="1702080"/>
              <a:ext cx="33588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58360" y="1700280"/>
              <a:ext cx="33588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87040" y="1700280"/>
              <a:ext cx="33588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03840" y="1700280"/>
              <a:ext cx="33588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44760" y="1700280"/>
              <a:ext cx="33588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61560" y="1700280"/>
              <a:ext cx="33588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2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02480" y="1700280"/>
              <a:ext cx="33588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2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36560" y="1700280"/>
              <a:ext cx="335880" cy="261360"/>
            </a:xfrm>
            <a:prstGeom prst="rect">
              <a:avLst/>
            </a:prstGeom>
            <a:gradFill rotWithShape="0">
              <a:gsLst>
                <a:gs pos="0">
                  <a:srgbClr val="366b7e"/>
                </a:gs>
                <a:gs pos="100000">
                  <a:srgbClr val="5d889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2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195560" y="2019240"/>
            <a:ext cx="27432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67000" y="2017800"/>
            <a:ext cx="27432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38440" y="2019240"/>
            <a:ext cx="27468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13120" y="2019240"/>
            <a:ext cx="27432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2019240"/>
            <a:ext cx="27180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70040" y="2021040"/>
            <a:ext cx="287640" cy="350172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55880" y="2019240"/>
            <a:ext cx="28908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41720" y="2021040"/>
            <a:ext cx="307800" cy="350172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43400" y="2021040"/>
            <a:ext cx="277560" cy="350172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19520" y="2019240"/>
            <a:ext cx="31608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32360" y="2019240"/>
            <a:ext cx="32544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9240" y="2019240"/>
            <a:ext cx="32544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4680" y="2019240"/>
            <a:ext cx="32400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1560" y="2019240"/>
            <a:ext cx="32868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8800" y="2019240"/>
            <a:ext cx="32868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61000" y="2019240"/>
            <a:ext cx="32868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92920" y="2019240"/>
            <a:ext cx="32868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16560" y="2019240"/>
            <a:ext cx="32868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42000" y="2019240"/>
            <a:ext cx="32076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62760" y="2019240"/>
            <a:ext cx="32076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78840" y="2019240"/>
            <a:ext cx="31896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93120" y="2019240"/>
            <a:ext cx="32868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921800" y="2019240"/>
            <a:ext cx="328320" cy="3502080"/>
          </a:xfrm>
          <a:prstGeom prst="rect">
            <a:avLst/>
          </a:prstGeom>
          <a:noFill/>
          <a:ln cap="rnd" w="3240">
            <a:solidFill>
              <a:srgbClr val="366b7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08240" y="2873520"/>
            <a:ext cx="59212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ERENCE &amp; NETWORK CONSO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251080" y="3489480"/>
            <a:ext cx="5031720" cy="549000"/>
            <a:chOff x="2251080" y="3489480"/>
            <a:chExt cx="5031720" cy="549000"/>
          </a:xfrm>
        </p:grpSpPr>
        <p:sp>
          <p:nvSpPr>
            <p:cNvPr id="235" name=""/>
            <p:cNvSpPr/>
            <p:nvPr/>
          </p:nvSpPr>
          <p:spPr>
            <a:xfrm>
              <a:off x="2251080" y="3504600"/>
              <a:ext cx="4993920" cy="532800"/>
            </a:xfrm>
            <a:custGeom>
              <a:avLst/>
              <a:gdLst>
                <a:gd name="textAreaLeft" fmla="*/ 0 w 4993920"/>
                <a:gd name="textAreaRight" fmla="*/ 4994280 w 4993920"/>
                <a:gd name="textAreaTop" fmla="*/ 0 h 532800"/>
                <a:gd name="textAreaBottom" fmla="*/ 533160 h 53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7" y="0"/>
                  </a:lnTo>
                  <a:lnTo>
                    <a:pt x="21600" y="10800"/>
                  </a:lnTo>
                  <a:lnTo>
                    <a:pt x="19547" y="21600"/>
                  </a:lnTo>
                  <a:lnTo>
                    <a:pt x="0" y="21600"/>
                  </a:lnTo>
                  <a:lnTo>
                    <a:pt x="2053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604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UDIES &amp; BEST PRACT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65480" y="3489480"/>
              <a:ext cx="5017320" cy="549000"/>
            </a:xfrm>
            <a:custGeom>
              <a:avLst/>
              <a:gdLst/>
              <a:ahLst/>
              <a:rect l="l" t="t" r="r" b="b"/>
              <a:pathLst>
                <a:path w="1507" h="648">
                  <a:moveTo>
                    <a:pt x="0" y="0"/>
                  </a:moveTo>
                  <a:lnTo>
                    <a:pt x="1340" y="0"/>
                  </a:lnTo>
                  <a:lnTo>
                    <a:pt x="1507" y="325"/>
                  </a:lnTo>
                  <a:lnTo>
                    <a:pt x="1340" y="648"/>
                  </a:lnTo>
                </a:path>
              </a:pathLst>
            </a:custGeom>
            <a:noFill/>
            <a:ln w="28440">
              <a:solidFill>
                <a:srgbClr val="366b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843200" y="4181400"/>
            <a:ext cx="5214240" cy="511200"/>
            <a:chOff x="1843200" y="4181400"/>
            <a:chExt cx="5214240" cy="511200"/>
          </a:xfrm>
        </p:grpSpPr>
        <p:sp>
          <p:nvSpPr>
            <p:cNvPr id="238" name=""/>
            <p:cNvSpPr/>
            <p:nvPr/>
          </p:nvSpPr>
          <p:spPr>
            <a:xfrm>
              <a:off x="1843200" y="4195440"/>
              <a:ext cx="5175000" cy="496080"/>
            </a:xfrm>
            <a:custGeom>
              <a:avLst/>
              <a:gdLst>
                <a:gd name="textAreaLeft" fmla="*/ 0 w 5175000"/>
                <a:gd name="textAreaRight" fmla="*/ 5175360 w 517500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7" y="0"/>
                  </a:lnTo>
                  <a:lnTo>
                    <a:pt x="21600" y="10800"/>
                  </a:lnTo>
                  <a:lnTo>
                    <a:pt x="19547" y="21600"/>
                  </a:lnTo>
                  <a:lnTo>
                    <a:pt x="0" y="21600"/>
                  </a:lnTo>
                  <a:lnTo>
                    <a:pt x="2053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604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PECIFIC WORKSHOPS &amp; TRAIN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58320" y="4181400"/>
              <a:ext cx="5199120" cy="511200"/>
            </a:xfrm>
            <a:custGeom>
              <a:avLst/>
              <a:gdLst/>
              <a:ahLst/>
              <a:rect l="l" t="t" r="r" b="b"/>
              <a:pathLst>
                <a:path w="1507" h="648">
                  <a:moveTo>
                    <a:pt x="0" y="0"/>
                  </a:moveTo>
                  <a:lnTo>
                    <a:pt x="1340" y="0"/>
                  </a:lnTo>
                  <a:lnTo>
                    <a:pt x="1507" y="325"/>
                  </a:lnTo>
                  <a:lnTo>
                    <a:pt x="1340" y="648"/>
                  </a:lnTo>
                </a:path>
              </a:pathLst>
            </a:custGeom>
            <a:noFill/>
            <a:ln w="28440">
              <a:solidFill>
                <a:srgbClr val="366b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59160" y="4816440"/>
            <a:ext cx="3519000" cy="549360"/>
            <a:chOff x="2459160" y="4816440"/>
            <a:chExt cx="3519000" cy="549360"/>
          </a:xfrm>
        </p:grpSpPr>
        <p:sp>
          <p:nvSpPr>
            <p:cNvPr id="241" name=""/>
            <p:cNvSpPr/>
            <p:nvPr/>
          </p:nvSpPr>
          <p:spPr>
            <a:xfrm>
              <a:off x="2459160" y="4831560"/>
              <a:ext cx="3492360" cy="533160"/>
            </a:xfrm>
            <a:custGeom>
              <a:avLst/>
              <a:gdLst>
                <a:gd name="textAreaLeft" fmla="*/ 0 w 3492360"/>
                <a:gd name="textAreaRight" fmla="*/ 3492720 w 34923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7" y="0"/>
                  </a:lnTo>
                  <a:lnTo>
                    <a:pt x="21600" y="10800"/>
                  </a:lnTo>
                  <a:lnTo>
                    <a:pt x="19547" y="21600"/>
                  </a:lnTo>
                  <a:lnTo>
                    <a:pt x="0" y="21600"/>
                  </a:lnTo>
                  <a:lnTo>
                    <a:pt x="2053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604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REGIONAL TWI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69240" y="4816440"/>
              <a:ext cx="3508920" cy="549360"/>
            </a:xfrm>
            <a:custGeom>
              <a:avLst/>
              <a:gdLst/>
              <a:ahLst/>
              <a:rect l="l" t="t" r="r" b="b"/>
              <a:pathLst>
                <a:path w="1507" h="648">
                  <a:moveTo>
                    <a:pt x="0" y="0"/>
                  </a:moveTo>
                  <a:lnTo>
                    <a:pt x="1340" y="0"/>
                  </a:lnTo>
                  <a:lnTo>
                    <a:pt x="1507" y="325"/>
                  </a:lnTo>
                  <a:lnTo>
                    <a:pt x="1340" y="648"/>
                  </a:lnTo>
                </a:path>
              </a:pathLst>
            </a:custGeom>
            <a:noFill/>
            <a:ln w="28440">
              <a:solidFill>
                <a:srgbClr val="366b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7451640" y="5776920"/>
            <a:ext cx="1506600" cy="42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(30 aprile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942840" y="2143080"/>
            <a:ext cx="7342920" cy="549360"/>
            <a:chOff x="942840" y="2143080"/>
            <a:chExt cx="7342920" cy="549360"/>
          </a:xfrm>
        </p:grpSpPr>
        <p:sp>
          <p:nvSpPr>
            <p:cNvPr id="245" name=""/>
            <p:cNvSpPr/>
            <p:nvPr/>
          </p:nvSpPr>
          <p:spPr>
            <a:xfrm>
              <a:off x="942840" y="2158200"/>
              <a:ext cx="7287480" cy="533160"/>
            </a:xfrm>
            <a:custGeom>
              <a:avLst/>
              <a:gdLst>
                <a:gd name="textAreaLeft" fmla="*/ 0 w 7287480"/>
                <a:gd name="textAreaRight" fmla="*/ 7287840 w 72874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47" y="0"/>
                  </a:lnTo>
                  <a:lnTo>
                    <a:pt x="21600" y="10800"/>
                  </a:lnTo>
                  <a:lnTo>
                    <a:pt x="19547" y="21600"/>
                  </a:lnTo>
                  <a:lnTo>
                    <a:pt x="0" y="21600"/>
                  </a:lnTo>
                  <a:lnTo>
                    <a:pt x="2053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604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ORMATION &amp; KNOWLEDGE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64080" y="2143080"/>
              <a:ext cx="7321680" cy="549360"/>
            </a:xfrm>
            <a:custGeom>
              <a:avLst/>
              <a:gdLst/>
              <a:ahLst/>
              <a:rect l="l" t="t" r="r" b="b"/>
              <a:pathLst>
                <a:path w="1507" h="648">
                  <a:moveTo>
                    <a:pt x="0" y="0"/>
                  </a:moveTo>
                  <a:lnTo>
                    <a:pt x="1340" y="0"/>
                  </a:lnTo>
                  <a:lnTo>
                    <a:pt x="1507" y="325"/>
                  </a:lnTo>
                  <a:lnTo>
                    <a:pt x="1340" y="648"/>
                  </a:lnTo>
                </a:path>
              </a:pathLst>
            </a:custGeom>
            <a:noFill/>
            <a:ln w="28440">
              <a:solidFill>
                <a:srgbClr val="366b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947880" y="2157480"/>
            <a:ext cx="725400" cy="5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54320" y="3535200"/>
            <a:ext cx="581040" cy="50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33480" y="4203720"/>
            <a:ext cx="47952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71760" y="4870440"/>
            <a:ext cx="45072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2133720"/>
            <a:ext cx="1192320" cy="733320"/>
          </a:xfrm>
          <a:prstGeom prst="borderCallout2">
            <a:avLst>
              <a:gd name="adj1" fmla="val 18750"/>
              <a:gd name="adj2" fmla="val -8333"/>
              <a:gd name="adj3" fmla="val 11958"/>
              <a:gd name="adj4" fmla="val 101333"/>
              <a:gd name="adj5" fmla="val 107995"/>
              <a:gd name="adj6" fmla="val 101324"/>
            </a:avLst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ck-off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Giugno 04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1579680" cy="733320"/>
          </a:xfrm>
          <a:prstGeom prst="borderCallout2">
            <a:avLst>
              <a:gd name="adj1" fmla="val 18750"/>
              <a:gd name="adj2" fmla="val -8333"/>
              <a:gd name="adj3" fmla="val 11958"/>
              <a:gd name="adj4" fmla="val 109245"/>
              <a:gd name="adj5" fmla="val -15750"/>
              <a:gd name="adj6" fmla="val 113851"/>
            </a:avLst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ing Con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(Settembre 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3284640"/>
            <a:ext cx="1368360" cy="733320"/>
          </a:xfrm>
          <a:prstGeom prst="borderCallout2">
            <a:avLst>
              <a:gd name="adj1" fmla="val 18750"/>
              <a:gd name="adj2" fmla="val -8333"/>
              <a:gd name="adj3" fmla="val 11958"/>
              <a:gd name="adj4" fmla="val -10787"/>
              <a:gd name="adj5" fmla="val -28898"/>
              <a:gd name="adj6" fmla="val -16120"/>
            </a:avLst>
          </a:prstGeom>
          <a:gradFill rotWithShape="0">
            <a:gsLst>
              <a:gs pos="0">
                <a:srgbClr val="6666ff">
                  <a:alpha val="60392"/>
                </a:srgbClr>
              </a:gs>
              <a:gs pos="50000">
                <a:srgbClr val="fefefe"/>
              </a:gs>
              <a:gs pos="100000">
                <a:srgbClr val="6666ff">
                  <a:alpha val="60392"/>
                </a:srgbClr>
              </a:gs>
            </a:gsLst>
            <a:lin ang="13500000"/>
          </a:gradFill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ing Con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(Febbraio 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341360"/>
            <a:ext cx="774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354040" y="649440"/>
            <a:ext cx="40892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www.fashionnet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035080" y="1177920"/>
            <a:ext cx="5073840" cy="562140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11:02:03Z</dcterms:created>
  <dc:creator>IPI</dc:creator>
  <dc:description/>
  <dc:language>en-US</dc:language>
  <cp:lastModifiedBy>ILARIA</cp:lastModifiedBy>
  <dcterms:modified xsi:type="dcterms:W3CDTF">2005-02-03T09:34:18Z</dcterms:modified>
  <cp:revision>19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5655944</vt:r8>
  </property>
  <property fmtid="{D5CDD505-2E9C-101B-9397-08002B2CF9AE}" pid="3" name="_AuthorEmail">
    <vt:lpwstr>VEZZANI@ipi.it</vt:lpwstr>
  </property>
  <property fmtid="{D5CDD505-2E9C-101B-9397-08002B2CF9AE}" pid="4" name="_AuthorEmailDisplayName">
    <vt:lpwstr>VEZZANI Antonio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