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50563-18DB-4AB2-BECB-BDDB3347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C1876-B02A-4086-951C-D9D61672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9B6FF-4EA1-43E9-9C86-BD11C853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CA48E-DABE-4EAC-B1E1-2A04A883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7E07C-B434-4AF0-A1E6-B144914B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B4C3B-5FCA-44CC-9244-6E3FEB8B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26596-8033-4629-A679-A908964B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5A4AB-3500-4EE2-BE3E-0F649C0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F3A66-D26D-4269-8B7E-75EA2CA2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8F5D8-1608-40C0-8C4D-C372FB67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EC09B-FA86-44C1-AD8C-6877E9E0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03AA8-EE83-4889-908E-C6CB2AA5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6002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609480" cy="419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990720"/>
            <a:ext cx="76320" cy="1052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ITE-LOGO-FINAL-COLOR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logo_telaio" descr=""/>
          <p:cNvPicPr/>
          <p:nvPr/>
        </p:nvPicPr>
        <p:blipFill>
          <a:blip r:embed="rId4"/>
          <a:stretch/>
        </p:blipFill>
        <p:spPr>
          <a:xfrm>
            <a:off x="8150400" y="5867280"/>
            <a:ext cx="807840" cy="8254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943600" y="6019920"/>
            <a:ext cx="2133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ecnotess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096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FDB6-5565-4EEF-99F1-C4FCB276A8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3657600"/>
            <a:ext cx="711360" cy="474840"/>
            <a:chOff x="838080" y="365760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838080" y="3657600"/>
              <a:ext cx="43812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20760" y="365760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450720" y="365724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048120"/>
            <a:ext cx="76320" cy="1052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nfo@fashionnet.org" TargetMode="External"/><Relationship Id="rId2" Type="http://schemas.openxmlformats.org/officeDocument/2006/relationships/hyperlink" Target="mailto:info@fashionnet.org" TargetMode="External"/><Relationship Id="rId3" Type="http://schemas.openxmlformats.org/officeDocument/2006/relationships/hyperlink" Target="mailto:info@fashionnet.or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040" y="1447920"/>
            <a:ext cx="5715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owards a European wide </a:t>
            </a:r>
            <a:r>
              <a:rPr b="0" lang="it-IT" sz="3200" spc="-1" strike="noStrike">
                <a:solidFill>
                  <a:srgbClr val="ffcf01"/>
                </a:solidFill>
                <a:latin typeface="Tahoma"/>
              </a:rPr>
              <a:t>I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ntelligent </a:t>
            </a:r>
            <a:r>
              <a:rPr b="0" lang="it-IT" sz="3200" spc="-1" strike="noStrike">
                <a:solidFill>
                  <a:srgbClr val="ffcf01"/>
                </a:solidFill>
                <a:latin typeface="Tahoma"/>
              </a:rPr>
              <a:t>T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extile </a:t>
            </a:r>
            <a:r>
              <a:rPr b="0" lang="it-IT" sz="3200" spc="-1" strike="noStrike">
                <a:solidFill>
                  <a:srgbClr val="ffcf01"/>
                </a:solidFill>
                <a:latin typeface="Tahoma"/>
              </a:rPr>
              <a:t>E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nvironment: building, linking and bond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1460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Tahoma"/>
              </a:rPr>
              <a:t>Bari, 4 febbraio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Tahoma"/>
              </a:rPr>
              <a:t>Dott. Enrico Venturini Degli Esp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8088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ping up the Economic and Technological Intellig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12880" cy="558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55760" y="10875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TE-LOGO-FINAL-COLOR" descr=""/>
          <p:cNvPicPr/>
          <p:nvPr/>
        </p:nvPicPr>
        <p:blipFill>
          <a:blip r:embed="rId2"/>
          <a:stretch/>
        </p:blipFill>
        <p:spPr>
          <a:xfrm>
            <a:off x="0" y="1447920"/>
            <a:ext cx="3200400" cy="1877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2437920"/>
            <a:ext cx="4191120" cy="1676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PI – Silvia Gran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Viale Maresciallo Pilsudski 1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00197 Ro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el. +39 06 80972 519/5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nfo@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fashionnet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or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333399"/>
                </a:solidFill>
                <a:latin typeface="Tahoma"/>
              </a:rPr>
              <a:t>A chi rivolgers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124080"/>
            <a:ext cx="4419360" cy="1676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ECNOTESSILE – Enrico Venturi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Via del Gelso, 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59100 P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el. +39 0574 6340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rvices@tecnotex.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495680"/>
            <a:ext cx="3886200" cy="1676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ITER – Lidia Castagno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Via Andrea Costa, 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41012 Carpi (M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el. +39 059 6813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diac@citer.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800" spc="-1" strike="noStrike">
                <a:solidFill>
                  <a:srgbClr val="333399"/>
                </a:solidFill>
                <a:latin typeface="Tahoma"/>
              </a:rPr>
              <a:t>Obiettivi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Massima divulgazione nel settore Tessile-Abbigliamento del sesto Programma Quadro (FP6) dell’ Unione Europe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ensibilizzazione delle aziende tessili e dell’abbigliamento</a:t>
            </a:r>
            <a:r>
              <a:rPr b="1" lang="it-IT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ai progetti di ricerca del 6°PQ (strumenti disponibili per le PMI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Divulgazione ed implementazione di pratiche e risultati del benchmarking tecnologico pre-esistente </a:t>
            </a:r>
            <a:r>
              <a:rPr b="0" i="1" lang="it-IT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(progetto BENTEX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800" spc="-1" strike="noStrike">
                <a:solidFill>
                  <a:srgbClr val="333399"/>
                </a:solidFill>
                <a:latin typeface="Tahoma"/>
              </a:rPr>
              <a:t>Obiettivi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Analisi del ruolo del Fattore Umano per l’introduzione dell’innovazione all’interno delle PMI, allo scopo di aumentare la loro sensibilizzazione verso la partecipazione ai progetti Europe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strapolazione delle “best practices” nella gestione e crescita delle risorse umane e loro divulgazione ad un ampio pubblico di PM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La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162920" cy="3767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1960" y="1676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33"/>
                </a:solidFill>
                <a:latin typeface="Verdana"/>
              </a:rPr>
              <a:t>22 partner   16 pa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57200"/>
            <a:ext cx="2057400" cy="53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GRE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SPAG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ROM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LITU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REPUBBLICA CE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POLO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UNGH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BULG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TURC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CI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REPUBBLICA SLOV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PORTOGA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GERM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Il lavoro da svolge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76920" y="1828800"/>
            <a:ext cx="3124080" cy="3139920"/>
            <a:chOff x="4876920" y="1828800"/>
            <a:chExt cx="3124080" cy="3139920"/>
          </a:xfrm>
        </p:grpSpPr>
        <p:sp>
          <p:nvSpPr>
            <p:cNvPr id="108" name=""/>
            <p:cNvSpPr/>
            <p:nvPr/>
          </p:nvSpPr>
          <p:spPr>
            <a:xfrm>
              <a:off x="4876920" y="1828800"/>
              <a:ext cx="3124080" cy="3139920"/>
            </a:xfrm>
            <a:custGeom>
              <a:avLst/>
              <a:gdLst/>
              <a:ahLst/>
              <a:rect l="l" t="t" r="r" b="b"/>
              <a:pathLst>
                <a:path w="1477" h="1436">
                  <a:moveTo>
                    <a:pt x="0" y="299"/>
                  </a:moveTo>
                  <a:lnTo>
                    <a:pt x="0" y="0"/>
                  </a:lnTo>
                  <a:lnTo>
                    <a:pt x="1474" y="0"/>
                  </a:lnTo>
                  <a:lnTo>
                    <a:pt x="1476" y="1146"/>
                  </a:lnTo>
                  <a:lnTo>
                    <a:pt x="1348" y="1146"/>
                  </a:lnTo>
                  <a:lnTo>
                    <a:pt x="1343" y="1156"/>
                  </a:lnTo>
                  <a:lnTo>
                    <a:pt x="1339" y="1170"/>
                  </a:lnTo>
                  <a:lnTo>
                    <a:pt x="1339" y="1182"/>
                  </a:lnTo>
                  <a:lnTo>
                    <a:pt x="1340" y="1196"/>
                  </a:lnTo>
                  <a:lnTo>
                    <a:pt x="1345" y="1214"/>
                  </a:lnTo>
                  <a:lnTo>
                    <a:pt x="1350" y="1237"/>
                  </a:lnTo>
                  <a:lnTo>
                    <a:pt x="1355" y="1252"/>
                  </a:lnTo>
                  <a:lnTo>
                    <a:pt x="1359" y="1271"/>
                  </a:lnTo>
                  <a:lnTo>
                    <a:pt x="1362" y="1289"/>
                  </a:lnTo>
                  <a:lnTo>
                    <a:pt x="1362" y="1307"/>
                  </a:lnTo>
                  <a:lnTo>
                    <a:pt x="1359" y="1324"/>
                  </a:lnTo>
                  <a:lnTo>
                    <a:pt x="1355" y="1342"/>
                  </a:lnTo>
                  <a:lnTo>
                    <a:pt x="1349" y="1358"/>
                  </a:lnTo>
                  <a:lnTo>
                    <a:pt x="1339" y="1371"/>
                  </a:lnTo>
                  <a:lnTo>
                    <a:pt x="1325" y="1387"/>
                  </a:lnTo>
                  <a:lnTo>
                    <a:pt x="1311" y="1398"/>
                  </a:lnTo>
                  <a:lnTo>
                    <a:pt x="1298" y="1410"/>
                  </a:lnTo>
                  <a:lnTo>
                    <a:pt x="1282" y="1419"/>
                  </a:lnTo>
                  <a:lnTo>
                    <a:pt x="1264" y="1425"/>
                  </a:lnTo>
                  <a:lnTo>
                    <a:pt x="1243" y="1431"/>
                  </a:lnTo>
                  <a:lnTo>
                    <a:pt x="1222" y="1434"/>
                  </a:lnTo>
                  <a:lnTo>
                    <a:pt x="1204" y="1435"/>
                  </a:lnTo>
                  <a:lnTo>
                    <a:pt x="1185" y="1435"/>
                  </a:lnTo>
                  <a:lnTo>
                    <a:pt x="1167" y="1434"/>
                  </a:lnTo>
                  <a:lnTo>
                    <a:pt x="1153" y="1431"/>
                  </a:lnTo>
                  <a:lnTo>
                    <a:pt x="1136" y="1426"/>
                  </a:lnTo>
                  <a:lnTo>
                    <a:pt x="1120" y="1421"/>
                  </a:lnTo>
                  <a:lnTo>
                    <a:pt x="1107" y="1413"/>
                  </a:lnTo>
                  <a:lnTo>
                    <a:pt x="1093" y="1403"/>
                  </a:lnTo>
                  <a:lnTo>
                    <a:pt x="1080" y="1390"/>
                  </a:lnTo>
                  <a:lnTo>
                    <a:pt x="1067" y="1376"/>
                  </a:lnTo>
                  <a:lnTo>
                    <a:pt x="1056" y="1362"/>
                  </a:lnTo>
                  <a:lnTo>
                    <a:pt x="1047" y="1347"/>
                  </a:lnTo>
                  <a:lnTo>
                    <a:pt x="1040" y="1328"/>
                  </a:lnTo>
                  <a:lnTo>
                    <a:pt x="1035" y="1306"/>
                  </a:lnTo>
                  <a:lnTo>
                    <a:pt x="1035" y="1286"/>
                  </a:lnTo>
                  <a:lnTo>
                    <a:pt x="1040" y="1265"/>
                  </a:lnTo>
                  <a:lnTo>
                    <a:pt x="1046" y="1245"/>
                  </a:lnTo>
                  <a:lnTo>
                    <a:pt x="1051" y="1224"/>
                  </a:lnTo>
                  <a:lnTo>
                    <a:pt x="1057" y="1201"/>
                  </a:lnTo>
                  <a:lnTo>
                    <a:pt x="1060" y="1183"/>
                  </a:lnTo>
                  <a:lnTo>
                    <a:pt x="1060" y="1173"/>
                  </a:lnTo>
                  <a:lnTo>
                    <a:pt x="1058" y="1164"/>
                  </a:lnTo>
                  <a:lnTo>
                    <a:pt x="1054" y="1154"/>
                  </a:lnTo>
                  <a:lnTo>
                    <a:pt x="809" y="1154"/>
                  </a:lnTo>
                  <a:lnTo>
                    <a:pt x="812" y="1110"/>
                  </a:lnTo>
                  <a:lnTo>
                    <a:pt x="811" y="1086"/>
                  </a:lnTo>
                  <a:lnTo>
                    <a:pt x="809" y="1063"/>
                  </a:lnTo>
                  <a:lnTo>
                    <a:pt x="806" y="1041"/>
                  </a:lnTo>
                  <a:lnTo>
                    <a:pt x="802" y="1027"/>
                  </a:lnTo>
                  <a:lnTo>
                    <a:pt x="796" y="1014"/>
                  </a:lnTo>
                  <a:lnTo>
                    <a:pt x="788" y="1003"/>
                  </a:lnTo>
                  <a:lnTo>
                    <a:pt x="775" y="993"/>
                  </a:lnTo>
                  <a:lnTo>
                    <a:pt x="761" y="984"/>
                  </a:lnTo>
                  <a:lnTo>
                    <a:pt x="747" y="979"/>
                  </a:lnTo>
                  <a:lnTo>
                    <a:pt x="734" y="976"/>
                  </a:lnTo>
                  <a:lnTo>
                    <a:pt x="713" y="975"/>
                  </a:lnTo>
                  <a:lnTo>
                    <a:pt x="687" y="975"/>
                  </a:lnTo>
                  <a:lnTo>
                    <a:pt x="663" y="977"/>
                  </a:lnTo>
                  <a:lnTo>
                    <a:pt x="636" y="979"/>
                  </a:lnTo>
                  <a:lnTo>
                    <a:pt x="615" y="981"/>
                  </a:lnTo>
                  <a:lnTo>
                    <a:pt x="588" y="982"/>
                  </a:lnTo>
                  <a:lnTo>
                    <a:pt x="567" y="981"/>
                  </a:lnTo>
                  <a:lnTo>
                    <a:pt x="547" y="979"/>
                  </a:lnTo>
                  <a:lnTo>
                    <a:pt x="518" y="972"/>
                  </a:lnTo>
                  <a:lnTo>
                    <a:pt x="499" y="963"/>
                  </a:lnTo>
                  <a:lnTo>
                    <a:pt x="481" y="950"/>
                  </a:lnTo>
                  <a:lnTo>
                    <a:pt x="469" y="936"/>
                  </a:lnTo>
                  <a:lnTo>
                    <a:pt x="459" y="921"/>
                  </a:lnTo>
                  <a:lnTo>
                    <a:pt x="451" y="902"/>
                  </a:lnTo>
                  <a:lnTo>
                    <a:pt x="450" y="881"/>
                  </a:lnTo>
                  <a:lnTo>
                    <a:pt x="450" y="856"/>
                  </a:lnTo>
                  <a:lnTo>
                    <a:pt x="451" y="837"/>
                  </a:lnTo>
                  <a:lnTo>
                    <a:pt x="450" y="817"/>
                  </a:lnTo>
                  <a:lnTo>
                    <a:pt x="445" y="796"/>
                  </a:lnTo>
                  <a:lnTo>
                    <a:pt x="441" y="783"/>
                  </a:lnTo>
                  <a:lnTo>
                    <a:pt x="435" y="770"/>
                  </a:lnTo>
                  <a:lnTo>
                    <a:pt x="427" y="761"/>
                  </a:lnTo>
                  <a:lnTo>
                    <a:pt x="419" y="753"/>
                  </a:lnTo>
                  <a:lnTo>
                    <a:pt x="403" y="746"/>
                  </a:lnTo>
                  <a:lnTo>
                    <a:pt x="384" y="737"/>
                  </a:lnTo>
                  <a:lnTo>
                    <a:pt x="362" y="730"/>
                  </a:lnTo>
                  <a:lnTo>
                    <a:pt x="336" y="724"/>
                  </a:lnTo>
                  <a:lnTo>
                    <a:pt x="311" y="719"/>
                  </a:lnTo>
                  <a:lnTo>
                    <a:pt x="284" y="715"/>
                  </a:lnTo>
                  <a:lnTo>
                    <a:pt x="265" y="709"/>
                  </a:lnTo>
                  <a:lnTo>
                    <a:pt x="244" y="702"/>
                  </a:lnTo>
                  <a:lnTo>
                    <a:pt x="224" y="695"/>
                  </a:lnTo>
                  <a:lnTo>
                    <a:pt x="209" y="683"/>
                  </a:lnTo>
                  <a:lnTo>
                    <a:pt x="193" y="669"/>
                  </a:lnTo>
                  <a:lnTo>
                    <a:pt x="181" y="656"/>
                  </a:lnTo>
                  <a:lnTo>
                    <a:pt x="171" y="641"/>
                  </a:lnTo>
                  <a:lnTo>
                    <a:pt x="163" y="623"/>
                  </a:lnTo>
                  <a:lnTo>
                    <a:pt x="161" y="604"/>
                  </a:lnTo>
                  <a:lnTo>
                    <a:pt x="161" y="586"/>
                  </a:lnTo>
                  <a:lnTo>
                    <a:pt x="165" y="569"/>
                  </a:lnTo>
                  <a:lnTo>
                    <a:pt x="171" y="545"/>
                  </a:lnTo>
                  <a:lnTo>
                    <a:pt x="177" y="521"/>
                  </a:lnTo>
                  <a:lnTo>
                    <a:pt x="180" y="499"/>
                  </a:lnTo>
                  <a:lnTo>
                    <a:pt x="185" y="477"/>
                  </a:lnTo>
                  <a:lnTo>
                    <a:pt x="188" y="455"/>
                  </a:lnTo>
                  <a:lnTo>
                    <a:pt x="185" y="432"/>
                  </a:lnTo>
                  <a:lnTo>
                    <a:pt x="180" y="412"/>
                  </a:lnTo>
                  <a:lnTo>
                    <a:pt x="172" y="391"/>
                  </a:lnTo>
                  <a:lnTo>
                    <a:pt x="162" y="372"/>
                  </a:lnTo>
                  <a:lnTo>
                    <a:pt x="151" y="357"/>
                  </a:lnTo>
                  <a:lnTo>
                    <a:pt x="144" y="348"/>
                  </a:lnTo>
                  <a:lnTo>
                    <a:pt x="133" y="336"/>
                  </a:lnTo>
                  <a:lnTo>
                    <a:pt x="121" y="326"/>
                  </a:lnTo>
                  <a:lnTo>
                    <a:pt x="110" y="319"/>
                  </a:lnTo>
                  <a:lnTo>
                    <a:pt x="94" y="311"/>
                  </a:lnTo>
                  <a:lnTo>
                    <a:pt x="79" y="306"/>
                  </a:lnTo>
                  <a:lnTo>
                    <a:pt x="60" y="301"/>
                  </a:lnTo>
                  <a:lnTo>
                    <a:pt x="38" y="299"/>
                  </a:lnTo>
                  <a:lnTo>
                    <a:pt x="19" y="299"/>
                  </a:lnTo>
                  <a:lnTo>
                    <a:pt x="0" y="299"/>
                  </a:lnTo>
                </a:path>
              </a:pathLst>
            </a:custGeom>
            <a:solidFill>
              <a:srgbClr val="ff00ff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5160" y="1981080"/>
              <a:ext cx="281916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. Determinare l’importanza del “fattore umano” per la ricerca e l’innov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52480" y="3733920"/>
            <a:ext cx="3200040" cy="2742840"/>
            <a:chOff x="1752480" y="3733920"/>
            <a:chExt cx="3200040" cy="2742840"/>
          </a:xfrm>
        </p:grpSpPr>
        <p:grpSp>
          <p:nvGrpSpPr>
            <p:cNvPr id="111" name=""/>
            <p:cNvGrpSpPr/>
            <p:nvPr/>
          </p:nvGrpSpPr>
          <p:grpSpPr>
            <a:xfrm>
              <a:off x="1752480" y="3733920"/>
              <a:ext cx="3200040" cy="2742840"/>
              <a:chOff x="1752480" y="3733920"/>
              <a:chExt cx="3200040" cy="2742840"/>
            </a:xfrm>
          </p:grpSpPr>
          <p:sp>
            <p:nvSpPr>
              <p:cNvPr id="112" name=""/>
              <p:cNvSpPr/>
              <p:nvPr/>
            </p:nvSpPr>
            <p:spPr>
              <a:xfrm>
                <a:off x="1752480" y="3733920"/>
                <a:ext cx="3200040" cy="2742840"/>
              </a:xfrm>
              <a:custGeom>
                <a:avLst/>
                <a:gdLst/>
                <a:ahLst/>
                <a:rect l="l" t="t" r="r" b="b"/>
                <a:pathLst>
                  <a:path w="1477" h="1436">
                    <a:moveTo>
                      <a:pt x="1476" y="1182"/>
                    </a:moveTo>
                    <a:lnTo>
                      <a:pt x="1476" y="1435"/>
                    </a:lnTo>
                    <a:lnTo>
                      <a:pt x="1" y="1435"/>
                    </a:lnTo>
                    <a:lnTo>
                      <a:pt x="0" y="289"/>
                    </a:lnTo>
                    <a:lnTo>
                      <a:pt x="128" y="289"/>
                    </a:lnTo>
                    <a:lnTo>
                      <a:pt x="133" y="279"/>
                    </a:lnTo>
                    <a:lnTo>
                      <a:pt x="137" y="265"/>
                    </a:lnTo>
                    <a:lnTo>
                      <a:pt x="137" y="253"/>
                    </a:lnTo>
                    <a:lnTo>
                      <a:pt x="136" y="239"/>
                    </a:lnTo>
                    <a:lnTo>
                      <a:pt x="131" y="221"/>
                    </a:lnTo>
                    <a:lnTo>
                      <a:pt x="125" y="198"/>
                    </a:lnTo>
                    <a:lnTo>
                      <a:pt x="120" y="183"/>
                    </a:lnTo>
                    <a:lnTo>
                      <a:pt x="115" y="164"/>
                    </a:lnTo>
                    <a:lnTo>
                      <a:pt x="114" y="146"/>
                    </a:lnTo>
                    <a:lnTo>
                      <a:pt x="114" y="128"/>
                    </a:lnTo>
                    <a:lnTo>
                      <a:pt x="115" y="111"/>
                    </a:lnTo>
                    <a:lnTo>
                      <a:pt x="120" y="93"/>
                    </a:lnTo>
                    <a:lnTo>
                      <a:pt x="127" y="77"/>
                    </a:lnTo>
                    <a:lnTo>
                      <a:pt x="137" y="64"/>
                    </a:lnTo>
                    <a:lnTo>
                      <a:pt x="151" y="49"/>
                    </a:lnTo>
                    <a:lnTo>
                      <a:pt x="164" y="37"/>
                    </a:lnTo>
                    <a:lnTo>
                      <a:pt x="178" y="26"/>
                    </a:lnTo>
                    <a:lnTo>
                      <a:pt x="193" y="17"/>
                    </a:lnTo>
                    <a:lnTo>
                      <a:pt x="211" y="9"/>
                    </a:lnTo>
                    <a:lnTo>
                      <a:pt x="232" y="4"/>
                    </a:lnTo>
                    <a:lnTo>
                      <a:pt x="253" y="1"/>
                    </a:lnTo>
                    <a:lnTo>
                      <a:pt x="271" y="0"/>
                    </a:lnTo>
                    <a:lnTo>
                      <a:pt x="291" y="0"/>
                    </a:lnTo>
                    <a:lnTo>
                      <a:pt x="309" y="1"/>
                    </a:lnTo>
                    <a:lnTo>
                      <a:pt x="323" y="4"/>
                    </a:lnTo>
                    <a:lnTo>
                      <a:pt x="339" y="9"/>
                    </a:lnTo>
                    <a:lnTo>
                      <a:pt x="356" y="14"/>
                    </a:lnTo>
                    <a:lnTo>
                      <a:pt x="369" y="22"/>
                    </a:lnTo>
                    <a:lnTo>
                      <a:pt x="383" y="32"/>
                    </a:lnTo>
                    <a:lnTo>
                      <a:pt x="396" y="45"/>
                    </a:lnTo>
                    <a:lnTo>
                      <a:pt x="408" y="59"/>
                    </a:lnTo>
                    <a:lnTo>
                      <a:pt x="420" y="73"/>
                    </a:lnTo>
                    <a:lnTo>
                      <a:pt x="429" y="88"/>
                    </a:lnTo>
                    <a:lnTo>
                      <a:pt x="435" y="107"/>
                    </a:lnTo>
                    <a:lnTo>
                      <a:pt x="440" y="129"/>
                    </a:lnTo>
                    <a:lnTo>
                      <a:pt x="440" y="150"/>
                    </a:lnTo>
                    <a:lnTo>
                      <a:pt x="435" y="170"/>
                    </a:lnTo>
                    <a:lnTo>
                      <a:pt x="430" y="191"/>
                    </a:lnTo>
                    <a:lnTo>
                      <a:pt x="425" y="211"/>
                    </a:lnTo>
                    <a:lnTo>
                      <a:pt x="419" y="234"/>
                    </a:lnTo>
                    <a:lnTo>
                      <a:pt x="415" y="252"/>
                    </a:lnTo>
                    <a:lnTo>
                      <a:pt x="415" y="262"/>
                    </a:lnTo>
                    <a:lnTo>
                      <a:pt x="417" y="271"/>
                    </a:lnTo>
                    <a:lnTo>
                      <a:pt x="421" y="281"/>
                    </a:lnTo>
                    <a:lnTo>
                      <a:pt x="666" y="281"/>
                    </a:lnTo>
                    <a:lnTo>
                      <a:pt x="661" y="329"/>
                    </a:lnTo>
                    <a:lnTo>
                      <a:pt x="659" y="357"/>
                    </a:lnTo>
                    <a:lnTo>
                      <a:pt x="661" y="380"/>
                    </a:lnTo>
                    <a:lnTo>
                      <a:pt x="662" y="402"/>
                    </a:lnTo>
                    <a:lnTo>
                      <a:pt x="664" y="425"/>
                    </a:lnTo>
                    <a:lnTo>
                      <a:pt x="668" y="448"/>
                    </a:lnTo>
                    <a:lnTo>
                      <a:pt x="676" y="463"/>
                    </a:lnTo>
                    <a:lnTo>
                      <a:pt x="685" y="476"/>
                    </a:lnTo>
                    <a:lnTo>
                      <a:pt x="696" y="487"/>
                    </a:lnTo>
                    <a:lnTo>
                      <a:pt x="712" y="496"/>
                    </a:lnTo>
                    <a:lnTo>
                      <a:pt x="728" y="503"/>
                    </a:lnTo>
                    <a:lnTo>
                      <a:pt x="745" y="505"/>
                    </a:lnTo>
                    <a:lnTo>
                      <a:pt x="763" y="507"/>
                    </a:lnTo>
                    <a:lnTo>
                      <a:pt x="783" y="507"/>
                    </a:lnTo>
                    <a:lnTo>
                      <a:pt x="805" y="504"/>
                    </a:lnTo>
                    <a:lnTo>
                      <a:pt x="821" y="503"/>
                    </a:lnTo>
                    <a:lnTo>
                      <a:pt x="844" y="500"/>
                    </a:lnTo>
                    <a:lnTo>
                      <a:pt x="867" y="498"/>
                    </a:lnTo>
                    <a:lnTo>
                      <a:pt x="892" y="498"/>
                    </a:lnTo>
                    <a:lnTo>
                      <a:pt x="914" y="500"/>
                    </a:lnTo>
                    <a:lnTo>
                      <a:pt x="936" y="504"/>
                    </a:lnTo>
                    <a:lnTo>
                      <a:pt x="958" y="512"/>
                    </a:lnTo>
                    <a:lnTo>
                      <a:pt x="976" y="519"/>
                    </a:lnTo>
                    <a:lnTo>
                      <a:pt x="993" y="532"/>
                    </a:lnTo>
                    <a:lnTo>
                      <a:pt x="1005" y="546"/>
                    </a:lnTo>
                    <a:lnTo>
                      <a:pt x="1015" y="563"/>
                    </a:lnTo>
                    <a:lnTo>
                      <a:pt x="1022" y="581"/>
                    </a:lnTo>
                    <a:lnTo>
                      <a:pt x="1024" y="599"/>
                    </a:lnTo>
                    <a:lnTo>
                      <a:pt x="1022" y="619"/>
                    </a:lnTo>
                    <a:lnTo>
                      <a:pt x="1020" y="640"/>
                    </a:lnTo>
                    <a:lnTo>
                      <a:pt x="1022" y="660"/>
                    </a:lnTo>
                    <a:lnTo>
                      <a:pt x="1024" y="678"/>
                    </a:lnTo>
                    <a:lnTo>
                      <a:pt x="1031" y="695"/>
                    </a:lnTo>
                    <a:lnTo>
                      <a:pt x="1038" y="711"/>
                    </a:lnTo>
                    <a:lnTo>
                      <a:pt x="1049" y="723"/>
                    </a:lnTo>
                    <a:lnTo>
                      <a:pt x="1064" y="734"/>
                    </a:lnTo>
                    <a:lnTo>
                      <a:pt x="1084" y="742"/>
                    </a:lnTo>
                    <a:lnTo>
                      <a:pt x="1106" y="748"/>
                    </a:lnTo>
                    <a:lnTo>
                      <a:pt x="1124" y="753"/>
                    </a:lnTo>
                    <a:lnTo>
                      <a:pt x="1146" y="759"/>
                    </a:lnTo>
                    <a:lnTo>
                      <a:pt x="1171" y="764"/>
                    </a:lnTo>
                    <a:lnTo>
                      <a:pt x="1193" y="767"/>
                    </a:lnTo>
                    <a:lnTo>
                      <a:pt x="1215" y="774"/>
                    </a:lnTo>
                    <a:lnTo>
                      <a:pt x="1233" y="780"/>
                    </a:lnTo>
                    <a:lnTo>
                      <a:pt x="1251" y="788"/>
                    </a:lnTo>
                    <a:lnTo>
                      <a:pt x="1265" y="798"/>
                    </a:lnTo>
                    <a:lnTo>
                      <a:pt x="1276" y="808"/>
                    </a:lnTo>
                    <a:lnTo>
                      <a:pt x="1292" y="825"/>
                    </a:lnTo>
                    <a:lnTo>
                      <a:pt x="1301" y="840"/>
                    </a:lnTo>
                    <a:lnTo>
                      <a:pt x="1308" y="857"/>
                    </a:lnTo>
                    <a:lnTo>
                      <a:pt x="1312" y="880"/>
                    </a:lnTo>
                    <a:lnTo>
                      <a:pt x="1310" y="902"/>
                    </a:lnTo>
                    <a:lnTo>
                      <a:pt x="1306" y="921"/>
                    </a:lnTo>
                    <a:lnTo>
                      <a:pt x="1301" y="945"/>
                    </a:lnTo>
                    <a:lnTo>
                      <a:pt x="1294" y="972"/>
                    </a:lnTo>
                    <a:lnTo>
                      <a:pt x="1288" y="996"/>
                    </a:lnTo>
                    <a:lnTo>
                      <a:pt x="1285" y="1017"/>
                    </a:lnTo>
                    <a:lnTo>
                      <a:pt x="1285" y="1034"/>
                    </a:lnTo>
                    <a:lnTo>
                      <a:pt x="1289" y="1058"/>
                    </a:lnTo>
                    <a:lnTo>
                      <a:pt x="1294" y="1078"/>
                    </a:lnTo>
                    <a:lnTo>
                      <a:pt x="1302" y="1094"/>
                    </a:lnTo>
                    <a:lnTo>
                      <a:pt x="1311" y="1109"/>
                    </a:lnTo>
                    <a:lnTo>
                      <a:pt x="1324" y="1126"/>
                    </a:lnTo>
                    <a:lnTo>
                      <a:pt x="1338" y="1142"/>
                    </a:lnTo>
                    <a:lnTo>
                      <a:pt x="1354" y="1156"/>
                    </a:lnTo>
                    <a:lnTo>
                      <a:pt x="1374" y="1168"/>
                    </a:lnTo>
                    <a:lnTo>
                      <a:pt x="1392" y="1174"/>
                    </a:lnTo>
                    <a:lnTo>
                      <a:pt x="1411" y="1179"/>
                    </a:lnTo>
                    <a:lnTo>
                      <a:pt x="1430" y="1182"/>
                    </a:lnTo>
                    <a:lnTo>
                      <a:pt x="1453" y="1183"/>
                    </a:lnTo>
                    <a:lnTo>
                      <a:pt x="1476" y="1182"/>
                    </a:lnTo>
                  </a:path>
                </a:pathLst>
              </a:custGeom>
              <a:solidFill>
                <a:srgbClr val="00ff00">
                  <a:alpha val="50000"/>
                </a:srgbClr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74680" y="5099400"/>
                <a:ext cx="1836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752480" y="4800600"/>
              <a:ext cx="281952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4.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chnology Management Benchmarking: Arricchimento del database BENT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76920" y="4286160"/>
            <a:ext cx="3123720" cy="2133360"/>
            <a:chOff x="4876920" y="4286160"/>
            <a:chExt cx="3123720" cy="2133360"/>
          </a:xfrm>
        </p:grpSpPr>
        <p:grpSp>
          <p:nvGrpSpPr>
            <p:cNvPr id="116" name=""/>
            <p:cNvGrpSpPr/>
            <p:nvPr/>
          </p:nvGrpSpPr>
          <p:grpSpPr>
            <a:xfrm>
              <a:off x="4876920" y="4286160"/>
              <a:ext cx="3123360" cy="2133360"/>
              <a:chOff x="4876920" y="4286160"/>
              <a:chExt cx="3123360" cy="2133360"/>
            </a:xfrm>
          </p:grpSpPr>
          <p:sp>
            <p:nvSpPr>
              <p:cNvPr id="117" name=""/>
              <p:cNvSpPr/>
              <p:nvPr/>
            </p:nvSpPr>
            <p:spPr>
              <a:xfrm>
                <a:off x="4876920" y="4286160"/>
                <a:ext cx="3123360" cy="2133360"/>
              </a:xfrm>
              <a:custGeom>
                <a:avLst/>
                <a:gdLst/>
                <a:ahLst/>
                <a:rect l="l" t="t" r="r" b="b"/>
                <a:pathLst>
                  <a:path w="1484" h="1203">
                    <a:moveTo>
                      <a:pt x="0" y="950"/>
                    </a:moveTo>
                    <a:lnTo>
                      <a:pt x="0" y="1202"/>
                    </a:lnTo>
                    <a:lnTo>
                      <a:pt x="1483" y="1202"/>
                    </a:lnTo>
                    <a:lnTo>
                      <a:pt x="1481" y="0"/>
                    </a:lnTo>
                    <a:lnTo>
                      <a:pt x="1350" y="0"/>
                    </a:lnTo>
                    <a:lnTo>
                      <a:pt x="1343" y="23"/>
                    </a:lnTo>
                    <a:lnTo>
                      <a:pt x="1343" y="39"/>
                    </a:lnTo>
                    <a:lnTo>
                      <a:pt x="1347" y="62"/>
                    </a:lnTo>
                    <a:lnTo>
                      <a:pt x="1355" y="87"/>
                    </a:lnTo>
                    <a:lnTo>
                      <a:pt x="1362" y="116"/>
                    </a:lnTo>
                    <a:lnTo>
                      <a:pt x="1366" y="139"/>
                    </a:lnTo>
                    <a:lnTo>
                      <a:pt x="1366" y="160"/>
                    </a:lnTo>
                    <a:lnTo>
                      <a:pt x="1364" y="183"/>
                    </a:lnTo>
                    <a:lnTo>
                      <a:pt x="1357" y="204"/>
                    </a:lnTo>
                    <a:lnTo>
                      <a:pt x="1343" y="225"/>
                    </a:lnTo>
                    <a:lnTo>
                      <a:pt x="1326" y="243"/>
                    </a:lnTo>
                    <a:lnTo>
                      <a:pt x="1309" y="259"/>
                    </a:lnTo>
                    <a:lnTo>
                      <a:pt x="1288" y="271"/>
                    </a:lnTo>
                    <a:lnTo>
                      <a:pt x="1264" y="280"/>
                    </a:lnTo>
                    <a:lnTo>
                      <a:pt x="1242" y="285"/>
                    </a:lnTo>
                    <a:lnTo>
                      <a:pt x="1211" y="286"/>
                    </a:lnTo>
                    <a:lnTo>
                      <a:pt x="1175" y="284"/>
                    </a:lnTo>
                    <a:lnTo>
                      <a:pt x="1152" y="280"/>
                    </a:lnTo>
                    <a:lnTo>
                      <a:pt x="1132" y="275"/>
                    </a:lnTo>
                    <a:lnTo>
                      <a:pt x="1113" y="263"/>
                    </a:lnTo>
                    <a:lnTo>
                      <a:pt x="1088" y="244"/>
                    </a:lnTo>
                    <a:lnTo>
                      <a:pt x="1073" y="226"/>
                    </a:lnTo>
                    <a:lnTo>
                      <a:pt x="1059" y="207"/>
                    </a:lnTo>
                    <a:lnTo>
                      <a:pt x="1051" y="187"/>
                    </a:lnTo>
                    <a:lnTo>
                      <a:pt x="1046" y="167"/>
                    </a:lnTo>
                    <a:lnTo>
                      <a:pt x="1046" y="146"/>
                    </a:lnTo>
                    <a:lnTo>
                      <a:pt x="1049" y="124"/>
                    </a:lnTo>
                    <a:lnTo>
                      <a:pt x="1054" y="103"/>
                    </a:lnTo>
                    <a:lnTo>
                      <a:pt x="1059" y="84"/>
                    </a:lnTo>
                    <a:lnTo>
                      <a:pt x="1065" y="64"/>
                    </a:lnTo>
                    <a:lnTo>
                      <a:pt x="1069" y="43"/>
                    </a:lnTo>
                    <a:lnTo>
                      <a:pt x="1069" y="25"/>
                    </a:lnTo>
                    <a:lnTo>
                      <a:pt x="1064" y="5"/>
                    </a:lnTo>
                    <a:lnTo>
                      <a:pt x="816" y="5"/>
                    </a:lnTo>
                    <a:lnTo>
                      <a:pt x="818" y="47"/>
                    </a:lnTo>
                    <a:lnTo>
                      <a:pt x="816" y="77"/>
                    </a:lnTo>
                    <a:lnTo>
                      <a:pt x="814" y="101"/>
                    </a:lnTo>
                    <a:lnTo>
                      <a:pt x="814" y="123"/>
                    </a:lnTo>
                    <a:lnTo>
                      <a:pt x="812" y="146"/>
                    </a:lnTo>
                    <a:lnTo>
                      <a:pt x="807" y="169"/>
                    </a:lnTo>
                    <a:lnTo>
                      <a:pt x="800" y="184"/>
                    </a:lnTo>
                    <a:lnTo>
                      <a:pt x="791" y="198"/>
                    </a:lnTo>
                    <a:lnTo>
                      <a:pt x="779" y="210"/>
                    </a:lnTo>
                    <a:lnTo>
                      <a:pt x="764" y="219"/>
                    </a:lnTo>
                    <a:lnTo>
                      <a:pt x="748" y="224"/>
                    </a:lnTo>
                    <a:lnTo>
                      <a:pt x="730" y="226"/>
                    </a:lnTo>
                    <a:lnTo>
                      <a:pt x="713" y="227"/>
                    </a:lnTo>
                    <a:lnTo>
                      <a:pt x="691" y="227"/>
                    </a:lnTo>
                    <a:lnTo>
                      <a:pt x="671" y="225"/>
                    </a:lnTo>
                    <a:lnTo>
                      <a:pt x="654" y="224"/>
                    </a:lnTo>
                    <a:lnTo>
                      <a:pt x="633" y="222"/>
                    </a:lnTo>
                    <a:lnTo>
                      <a:pt x="610" y="220"/>
                    </a:lnTo>
                    <a:lnTo>
                      <a:pt x="584" y="220"/>
                    </a:lnTo>
                    <a:lnTo>
                      <a:pt x="562" y="222"/>
                    </a:lnTo>
                    <a:lnTo>
                      <a:pt x="540" y="225"/>
                    </a:lnTo>
                    <a:lnTo>
                      <a:pt x="517" y="231"/>
                    </a:lnTo>
                    <a:lnTo>
                      <a:pt x="501" y="240"/>
                    </a:lnTo>
                    <a:lnTo>
                      <a:pt x="483" y="252"/>
                    </a:lnTo>
                    <a:lnTo>
                      <a:pt x="471" y="267"/>
                    </a:lnTo>
                    <a:lnTo>
                      <a:pt x="460" y="284"/>
                    </a:lnTo>
                    <a:lnTo>
                      <a:pt x="455" y="300"/>
                    </a:lnTo>
                    <a:lnTo>
                      <a:pt x="452" y="320"/>
                    </a:lnTo>
                    <a:lnTo>
                      <a:pt x="455" y="339"/>
                    </a:lnTo>
                    <a:lnTo>
                      <a:pt x="456" y="359"/>
                    </a:lnTo>
                    <a:lnTo>
                      <a:pt x="455" y="381"/>
                    </a:lnTo>
                    <a:lnTo>
                      <a:pt x="451" y="398"/>
                    </a:lnTo>
                    <a:lnTo>
                      <a:pt x="446" y="416"/>
                    </a:lnTo>
                    <a:lnTo>
                      <a:pt x="438" y="432"/>
                    </a:lnTo>
                    <a:lnTo>
                      <a:pt x="428" y="444"/>
                    </a:lnTo>
                    <a:lnTo>
                      <a:pt x="411" y="455"/>
                    </a:lnTo>
                    <a:lnTo>
                      <a:pt x="391" y="463"/>
                    </a:lnTo>
                    <a:lnTo>
                      <a:pt x="370" y="469"/>
                    </a:lnTo>
                    <a:lnTo>
                      <a:pt x="351" y="474"/>
                    </a:lnTo>
                    <a:lnTo>
                      <a:pt x="330" y="479"/>
                    </a:lnTo>
                    <a:lnTo>
                      <a:pt x="304" y="485"/>
                    </a:lnTo>
                    <a:lnTo>
                      <a:pt x="283" y="488"/>
                    </a:lnTo>
                    <a:lnTo>
                      <a:pt x="261" y="495"/>
                    </a:lnTo>
                    <a:lnTo>
                      <a:pt x="243" y="501"/>
                    </a:lnTo>
                    <a:lnTo>
                      <a:pt x="225" y="509"/>
                    </a:lnTo>
                    <a:lnTo>
                      <a:pt x="211" y="519"/>
                    </a:lnTo>
                    <a:lnTo>
                      <a:pt x="199" y="529"/>
                    </a:lnTo>
                    <a:lnTo>
                      <a:pt x="184" y="546"/>
                    </a:lnTo>
                    <a:lnTo>
                      <a:pt x="176" y="561"/>
                    </a:lnTo>
                    <a:lnTo>
                      <a:pt x="168" y="579"/>
                    </a:lnTo>
                    <a:lnTo>
                      <a:pt x="164" y="601"/>
                    </a:lnTo>
                    <a:lnTo>
                      <a:pt x="167" y="621"/>
                    </a:lnTo>
                    <a:lnTo>
                      <a:pt x="169" y="642"/>
                    </a:lnTo>
                    <a:lnTo>
                      <a:pt x="176" y="666"/>
                    </a:lnTo>
                    <a:lnTo>
                      <a:pt x="182" y="693"/>
                    </a:lnTo>
                    <a:lnTo>
                      <a:pt x="187" y="717"/>
                    </a:lnTo>
                    <a:lnTo>
                      <a:pt x="190" y="737"/>
                    </a:lnTo>
                    <a:lnTo>
                      <a:pt x="190" y="754"/>
                    </a:lnTo>
                    <a:lnTo>
                      <a:pt x="187" y="779"/>
                    </a:lnTo>
                    <a:lnTo>
                      <a:pt x="181" y="799"/>
                    </a:lnTo>
                    <a:lnTo>
                      <a:pt x="176" y="817"/>
                    </a:lnTo>
                    <a:lnTo>
                      <a:pt x="168" y="834"/>
                    </a:lnTo>
                    <a:lnTo>
                      <a:pt x="158" y="856"/>
                    </a:lnTo>
                    <a:lnTo>
                      <a:pt x="144" y="880"/>
                    </a:lnTo>
                    <a:lnTo>
                      <a:pt x="128" y="898"/>
                    </a:lnTo>
                    <a:lnTo>
                      <a:pt x="113" y="912"/>
                    </a:lnTo>
                    <a:lnTo>
                      <a:pt x="99" y="925"/>
                    </a:lnTo>
                    <a:lnTo>
                      <a:pt x="83" y="935"/>
                    </a:lnTo>
                    <a:lnTo>
                      <a:pt x="68" y="941"/>
                    </a:lnTo>
                    <a:lnTo>
                      <a:pt x="46" y="946"/>
                    </a:lnTo>
                    <a:lnTo>
                      <a:pt x="22" y="950"/>
                    </a:lnTo>
                    <a:lnTo>
                      <a:pt x="0" y="950"/>
                    </a:lnTo>
                  </a:path>
                </a:pathLst>
              </a:custGeom>
              <a:solidFill>
                <a:srgbClr val="0000ff">
                  <a:alpha val="50000"/>
                </a:srgbClr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50360" y="5077080"/>
                <a:ext cx="1868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735880" y="4971960"/>
              <a:ext cx="226476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5.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ivulgazione dei risultati del proget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24080" y="2438280"/>
            <a:ext cx="3504960" cy="3733560"/>
            <a:chOff x="3124080" y="2438280"/>
            <a:chExt cx="3504960" cy="3733560"/>
          </a:xfrm>
        </p:grpSpPr>
        <p:grpSp>
          <p:nvGrpSpPr>
            <p:cNvPr id="121" name=""/>
            <p:cNvGrpSpPr/>
            <p:nvPr/>
          </p:nvGrpSpPr>
          <p:grpSpPr>
            <a:xfrm>
              <a:off x="3124080" y="2438280"/>
              <a:ext cx="3504960" cy="3733560"/>
              <a:chOff x="3124080" y="2438280"/>
              <a:chExt cx="3504960" cy="3733560"/>
            </a:xfrm>
          </p:grpSpPr>
          <p:sp>
            <p:nvSpPr>
              <p:cNvPr id="122" name=""/>
              <p:cNvSpPr/>
              <p:nvPr/>
            </p:nvSpPr>
            <p:spPr>
              <a:xfrm>
                <a:off x="3124080" y="2438280"/>
                <a:ext cx="3504960" cy="3733560"/>
              </a:xfrm>
              <a:custGeom>
                <a:avLst/>
                <a:gdLst/>
                <a:ahLst/>
                <a:rect l="l" t="t" r="r" b="b"/>
                <a:pathLst>
                  <a:path w="1645" h="1800">
                    <a:moveTo>
                      <a:pt x="626" y="376"/>
                    </a:moveTo>
                    <a:lnTo>
                      <a:pt x="643" y="355"/>
                    </a:lnTo>
                    <a:lnTo>
                      <a:pt x="654" y="336"/>
                    </a:lnTo>
                    <a:lnTo>
                      <a:pt x="661" y="314"/>
                    </a:lnTo>
                    <a:lnTo>
                      <a:pt x="661" y="286"/>
                    </a:lnTo>
                    <a:lnTo>
                      <a:pt x="653" y="254"/>
                    </a:lnTo>
                    <a:lnTo>
                      <a:pt x="647" y="227"/>
                    </a:lnTo>
                    <a:lnTo>
                      <a:pt x="638" y="194"/>
                    </a:lnTo>
                    <a:lnTo>
                      <a:pt x="634" y="158"/>
                    </a:lnTo>
                    <a:lnTo>
                      <a:pt x="638" y="137"/>
                    </a:lnTo>
                    <a:lnTo>
                      <a:pt x="644" y="110"/>
                    </a:lnTo>
                    <a:lnTo>
                      <a:pt x="657" y="82"/>
                    </a:lnTo>
                    <a:lnTo>
                      <a:pt x="675" y="55"/>
                    </a:lnTo>
                    <a:lnTo>
                      <a:pt x="698" y="33"/>
                    </a:lnTo>
                    <a:lnTo>
                      <a:pt x="718" y="16"/>
                    </a:lnTo>
                    <a:lnTo>
                      <a:pt x="747" y="6"/>
                    </a:lnTo>
                    <a:lnTo>
                      <a:pt x="780" y="1"/>
                    </a:lnTo>
                    <a:lnTo>
                      <a:pt x="816" y="0"/>
                    </a:lnTo>
                    <a:lnTo>
                      <a:pt x="864" y="0"/>
                    </a:lnTo>
                    <a:lnTo>
                      <a:pt x="903" y="4"/>
                    </a:lnTo>
                    <a:lnTo>
                      <a:pt x="925" y="11"/>
                    </a:lnTo>
                    <a:lnTo>
                      <a:pt x="941" y="22"/>
                    </a:lnTo>
                    <a:lnTo>
                      <a:pt x="959" y="33"/>
                    </a:lnTo>
                    <a:lnTo>
                      <a:pt x="977" y="51"/>
                    </a:lnTo>
                    <a:lnTo>
                      <a:pt x="994" y="74"/>
                    </a:lnTo>
                    <a:lnTo>
                      <a:pt x="1006" y="94"/>
                    </a:lnTo>
                    <a:lnTo>
                      <a:pt x="1013" y="112"/>
                    </a:lnTo>
                    <a:lnTo>
                      <a:pt x="1018" y="143"/>
                    </a:lnTo>
                    <a:lnTo>
                      <a:pt x="1018" y="170"/>
                    </a:lnTo>
                    <a:lnTo>
                      <a:pt x="1014" y="197"/>
                    </a:lnTo>
                    <a:lnTo>
                      <a:pt x="1009" y="217"/>
                    </a:lnTo>
                    <a:lnTo>
                      <a:pt x="1003" y="251"/>
                    </a:lnTo>
                    <a:lnTo>
                      <a:pt x="994" y="285"/>
                    </a:lnTo>
                    <a:lnTo>
                      <a:pt x="990" y="307"/>
                    </a:lnTo>
                    <a:lnTo>
                      <a:pt x="996" y="329"/>
                    </a:lnTo>
                    <a:lnTo>
                      <a:pt x="1004" y="344"/>
                    </a:lnTo>
                    <a:lnTo>
                      <a:pt x="1018" y="364"/>
                    </a:lnTo>
                    <a:lnTo>
                      <a:pt x="1038" y="381"/>
                    </a:lnTo>
                    <a:lnTo>
                      <a:pt x="1058" y="395"/>
                    </a:lnTo>
                    <a:lnTo>
                      <a:pt x="1086" y="407"/>
                    </a:lnTo>
                    <a:lnTo>
                      <a:pt x="1114" y="414"/>
                    </a:lnTo>
                    <a:lnTo>
                      <a:pt x="1141" y="421"/>
                    </a:lnTo>
                    <a:lnTo>
                      <a:pt x="1169" y="424"/>
                    </a:lnTo>
                    <a:lnTo>
                      <a:pt x="1199" y="432"/>
                    </a:lnTo>
                    <a:lnTo>
                      <a:pt x="1222" y="440"/>
                    </a:lnTo>
                    <a:lnTo>
                      <a:pt x="1239" y="449"/>
                    </a:lnTo>
                    <a:lnTo>
                      <a:pt x="1254" y="459"/>
                    </a:lnTo>
                    <a:lnTo>
                      <a:pt x="1264" y="471"/>
                    </a:lnTo>
                    <a:lnTo>
                      <a:pt x="1271" y="485"/>
                    </a:lnTo>
                    <a:lnTo>
                      <a:pt x="1278" y="501"/>
                    </a:lnTo>
                    <a:lnTo>
                      <a:pt x="1280" y="517"/>
                    </a:lnTo>
                    <a:lnTo>
                      <a:pt x="1283" y="531"/>
                    </a:lnTo>
                    <a:lnTo>
                      <a:pt x="1283" y="550"/>
                    </a:lnTo>
                    <a:lnTo>
                      <a:pt x="1280" y="572"/>
                    </a:lnTo>
                    <a:lnTo>
                      <a:pt x="1280" y="588"/>
                    </a:lnTo>
                    <a:lnTo>
                      <a:pt x="1284" y="609"/>
                    </a:lnTo>
                    <a:lnTo>
                      <a:pt x="1293" y="627"/>
                    </a:lnTo>
                    <a:lnTo>
                      <a:pt x="1304" y="642"/>
                    </a:lnTo>
                    <a:lnTo>
                      <a:pt x="1316" y="653"/>
                    </a:lnTo>
                    <a:lnTo>
                      <a:pt x="1333" y="666"/>
                    </a:lnTo>
                    <a:lnTo>
                      <a:pt x="1350" y="674"/>
                    </a:lnTo>
                    <a:lnTo>
                      <a:pt x="1375" y="679"/>
                    </a:lnTo>
                    <a:lnTo>
                      <a:pt x="1397" y="682"/>
                    </a:lnTo>
                    <a:lnTo>
                      <a:pt x="1417" y="683"/>
                    </a:lnTo>
                    <a:lnTo>
                      <a:pt x="1440" y="682"/>
                    </a:lnTo>
                    <a:lnTo>
                      <a:pt x="1469" y="679"/>
                    </a:lnTo>
                    <a:lnTo>
                      <a:pt x="1490" y="678"/>
                    </a:lnTo>
                    <a:lnTo>
                      <a:pt x="1512" y="675"/>
                    </a:lnTo>
                    <a:lnTo>
                      <a:pt x="1533" y="674"/>
                    </a:lnTo>
                    <a:lnTo>
                      <a:pt x="1557" y="675"/>
                    </a:lnTo>
                    <a:lnTo>
                      <a:pt x="1570" y="678"/>
                    </a:lnTo>
                    <a:lnTo>
                      <a:pt x="1585" y="682"/>
                    </a:lnTo>
                    <a:lnTo>
                      <a:pt x="1599" y="689"/>
                    </a:lnTo>
                    <a:lnTo>
                      <a:pt x="1615" y="701"/>
                    </a:lnTo>
                    <a:lnTo>
                      <a:pt x="1626" y="714"/>
                    </a:lnTo>
                    <a:lnTo>
                      <a:pt x="1635" y="733"/>
                    </a:lnTo>
                    <a:lnTo>
                      <a:pt x="1639" y="749"/>
                    </a:lnTo>
                    <a:lnTo>
                      <a:pt x="1641" y="770"/>
                    </a:lnTo>
                    <a:lnTo>
                      <a:pt x="1644" y="807"/>
                    </a:lnTo>
                    <a:lnTo>
                      <a:pt x="1643" y="850"/>
                    </a:lnTo>
                    <a:lnTo>
                      <a:pt x="1644" y="896"/>
                    </a:lnTo>
                    <a:lnTo>
                      <a:pt x="1640" y="950"/>
                    </a:lnTo>
                    <a:lnTo>
                      <a:pt x="1636" y="987"/>
                    </a:lnTo>
                    <a:lnTo>
                      <a:pt x="1633" y="1017"/>
                    </a:lnTo>
                    <a:lnTo>
                      <a:pt x="1626" y="1033"/>
                    </a:lnTo>
                    <a:lnTo>
                      <a:pt x="1616" y="1049"/>
                    </a:lnTo>
                    <a:lnTo>
                      <a:pt x="1604" y="1059"/>
                    </a:lnTo>
                    <a:lnTo>
                      <a:pt x="1589" y="1068"/>
                    </a:lnTo>
                    <a:lnTo>
                      <a:pt x="1571" y="1073"/>
                    </a:lnTo>
                    <a:lnTo>
                      <a:pt x="1556" y="1077"/>
                    </a:lnTo>
                    <a:lnTo>
                      <a:pt x="1524" y="1078"/>
                    </a:lnTo>
                    <a:lnTo>
                      <a:pt x="1496" y="1077"/>
                    </a:lnTo>
                    <a:lnTo>
                      <a:pt x="1472" y="1073"/>
                    </a:lnTo>
                    <a:lnTo>
                      <a:pt x="1452" y="1072"/>
                    </a:lnTo>
                    <a:lnTo>
                      <a:pt x="1429" y="1070"/>
                    </a:lnTo>
                    <a:lnTo>
                      <a:pt x="1408" y="1070"/>
                    </a:lnTo>
                    <a:lnTo>
                      <a:pt x="1391" y="1072"/>
                    </a:lnTo>
                    <a:lnTo>
                      <a:pt x="1371" y="1073"/>
                    </a:lnTo>
                    <a:lnTo>
                      <a:pt x="1348" y="1079"/>
                    </a:lnTo>
                    <a:lnTo>
                      <a:pt x="1336" y="1084"/>
                    </a:lnTo>
                    <a:lnTo>
                      <a:pt x="1324" y="1090"/>
                    </a:lnTo>
                    <a:lnTo>
                      <a:pt x="1309" y="1100"/>
                    </a:lnTo>
                    <a:lnTo>
                      <a:pt x="1298" y="1113"/>
                    </a:lnTo>
                    <a:lnTo>
                      <a:pt x="1291" y="1124"/>
                    </a:lnTo>
                    <a:lnTo>
                      <a:pt x="1283" y="1138"/>
                    </a:lnTo>
                    <a:lnTo>
                      <a:pt x="1279" y="1152"/>
                    </a:lnTo>
                    <a:lnTo>
                      <a:pt x="1278" y="1168"/>
                    </a:lnTo>
                    <a:lnTo>
                      <a:pt x="1279" y="1184"/>
                    </a:lnTo>
                    <a:lnTo>
                      <a:pt x="1279" y="1212"/>
                    </a:lnTo>
                    <a:lnTo>
                      <a:pt x="1278" y="1242"/>
                    </a:lnTo>
                    <a:lnTo>
                      <a:pt x="1270" y="1264"/>
                    </a:lnTo>
                    <a:lnTo>
                      <a:pt x="1263" y="1281"/>
                    </a:lnTo>
                    <a:lnTo>
                      <a:pt x="1251" y="1294"/>
                    </a:lnTo>
                    <a:lnTo>
                      <a:pt x="1234" y="1304"/>
                    </a:lnTo>
                    <a:lnTo>
                      <a:pt x="1218" y="1313"/>
                    </a:lnTo>
                    <a:lnTo>
                      <a:pt x="1199" y="1319"/>
                    </a:lnTo>
                    <a:lnTo>
                      <a:pt x="1174" y="1324"/>
                    </a:lnTo>
                    <a:lnTo>
                      <a:pt x="1154" y="1330"/>
                    </a:lnTo>
                    <a:lnTo>
                      <a:pt x="1129" y="1334"/>
                    </a:lnTo>
                    <a:lnTo>
                      <a:pt x="1109" y="1338"/>
                    </a:lnTo>
                    <a:lnTo>
                      <a:pt x="1086" y="1343"/>
                    </a:lnTo>
                    <a:lnTo>
                      <a:pt x="1068" y="1352"/>
                    </a:lnTo>
                    <a:lnTo>
                      <a:pt x="1047" y="1361"/>
                    </a:lnTo>
                    <a:lnTo>
                      <a:pt x="1028" y="1372"/>
                    </a:lnTo>
                    <a:lnTo>
                      <a:pt x="1014" y="1388"/>
                    </a:lnTo>
                    <a:lnTo>
                      <a:pt x="1001" y="1405"/>
                    </a:lnTo>
                    <a:lnTo>
                      <a:pt x="991" y="1427"/>
                    </a:lnTo>
                    <a:lnTo>
                      <a:pt x="989" y="1446"/>
                    </a:lnTo>
                    <a:lnTo>
                      <a:pt x="990" y="1468"/>
                    </a:lnTo>
                    <a:lnTo>
                      <a:pt x="994" y="1489"/>
                    </a:lnTo>
                    <a:lnTo>
                      <a:pt x="1000" y="1510"/>
                    </a:lnTo>
                    <a:lnTo>
                      <a:pt x="1005" y="1535"/>
                    </a:lnTo>
                    <a:lnTo>
                      <a:pt x="1009" y="1556"/>
                    </a:lnTo>
                    <a:lnTo>
                      <a:pt x="1014" y="1585"/>
                    </a:lnTo>
                    <a:lnTo>
                      <a:pt x="1014" y="1613"/>
                    </a:lnTo>
                    <a:lnTo>
                      <a:pt x="1008" y="1641"/>
                    </a:lnTo>
                    <a:lnTo>
                      <a:pt x="1001" y="1663"/>
                    </a:lnTo>
                    <a:lnTo>
                      <a:pt x="994" y="1684"/>
                    </a:lnTo>
                    <a:lnTo>
                      <a:pt x="983" y="1705"/>
                    </a:lnTo>
                    <a:lnTo>
                      <a:pt x="969" y="1730"/>
                    </a:lnTo>
                    <a:lnTo>
                      <a:pt x="954" y="1747"/>
                    </a:lnTo>
                    <a:lnTo>
                      <a:pt x="941" y="1759"/>
                    </a:lnTo>
                    <a:lnTo>
                      <a:pt x="925" y="1773"/>
                    </a:lnTo>
                    <a:lnTo>
                      <a:pt x="907" y="1785"/>
                    </a:lnTo>
                    <a:lnTo>
                      <a:pt x="890" y="1792"/>
                    </a:lnTo>
                    <a:lnTo>
                      <a:pt x="875" y="1796"/>
                    </a:lnTo>
                    <a:lnTo>
                      <a:pt x="849" y="1798"/>
                    </a:lnTo>
                    <a:lnTo>
                      <a:pt x="820" y="1799"/>
                    </a:lnTo>
                    <a:lnTo>
                      <a:pt x="784" y="1798"/>
                    </a:lnTo>
                    <a:lnTo>
                      <a:pt x="767" y="1798"/>
                    </a:lnTo>
                    <a:lnTo>
                      <a:pt x="745" y="1794"/>
                    </a:lnTo>
                    <a:lnTo>
                      <a:pt x="722" y="1788"/>
                    </a:lnTo>
                    <a:lnTo>
                      <a:pt x="702" y="1776"/>
                    </a:lnTo>
                    <a:lnTo>
                      <a:pt x="689" y="1766"/>
                    </a:lnTo>
                    <a:lnTo>
                      <a:pt x="675" y="1752"/>
                    </a:lnTo>
                    <a:lnTo>
                      <a:pt x="663" y="1739"/>
                    </a:lnTo>
                    <a:lnTo>
                      <a:pt x="652" y="1723"/>
                    </a:lnTo>
                    <a:lnTo>
                      <a:pt x="643" y="1706"/>
                    </a:lnTo>
                    <a:lnTo>
                      <a:pt x="635" y="1686"/>
                    </a:lnTo>
                    <a:lnTo>
                      <a:pt x="631" y="1664"/>
                    </a:lnTo>
                    <a:lnTo>
                      <a:pt x="630" y="1647"/>
                    </a:lnTo>
                    <a:lnTo>
                      <a:pt x="630" y="1624"/>
                    </a:lnTo>
                    <a:lnTo>
                      <a:pt x="631" y="1605"/>
                    </a:lnTo>
                    <a:lnTo>
                      <a:pt x="638" y="1585"/>
                    </a:lnTo>
                    <a:lnTo>
                      <a:pt x="643" y="1560"/>
                    </a:lnTo>
                    <a:lnTo>
                      <a:pt x="649" y="1537"/>
                    </a:lnTo>
                    <a:lnTo>
                      <a:pt x="653" y="1517"/>
                    </a:lnTo>
                    <a:lnTo>
                      <a:pt x="654" y="1498"/>
                    </a:lnTo>
                    <a:lnTo>
                      <a:pt x="653" y="1482"/>
                    </a:lnTo>
                    <a:lnTo>
                      <a:pt x="649" y="1467"/>
                    </a:lnTo>
                    <a:lnTo>
                      <a:pt x="639" y="1448"/>
                    </a:lnTo>
                    <a:lnTo>
                      <a:pt x="629" y="1435"/>
                    </a:lnTo>
                    <a:lnTo>
                      <a:pt x="616" y="1421"/>
                    </a:lnTo>
                    <a:lnTo>
                      <a:pt x="602" y="1411"/>
                    </a:lnTo>
                    <a:lnTo>
                      <a:pt x="588" y="1400"/>
                    </a:lnTo>
                    <a:lnTo>
                      <a:pt x="567" y="1393"/>
                    </a:lnTo>
                    <a:lnTo>
                      <a:pt x="549" y="1388"/>
                    </a:lnTo>
                    <a:lnTo>
                      <a:pt x="526" y="1382"/>
                    </a:lnTo>
                    <a:lnTo>
                      <a:pt x="506" y="1380"/>
                    </a:lnTo>
                    <a:lnTo>
                      <a:pt x="487" y="1375"/>
                    </a:lnTo>
                    <a:lnTo>
                      <a:pt x="464" y="1370"/>
                    </a:lnTo>
                    <a:lnTo>
                      <a:pt x="444" y="1362"/>
                    </a:lnTo>
                    <a:lnTo>
                      <a:pt x="421" y="1356"/>
                    </a:lnTo>
                    <a:lnTo>
                      <a:pt x="403" y="1348"/>
                    </a:lnTo>
                    <a:lnTo>
                      <a:pt x="389" y="1336"/>
                    </a:lnTo>
                    <a:lnTo>
                      <a:pt x="378" y="1321"/>
                    </a:lnTo>
                    <a:lnTo>
                      <a:pt x="370" y="1302"/>
                    </a:lnTo>
                    <a:lnTo>
                      <a:pt x="364" y="1276"/>
                    </a:lnTo>
                    <a:lnTo>
                      <a:pt x="362" y="1256"/>
                    </a:lnTo>
                    <a:lnTo>
                      <a:pt x="364" y="1233"/>
                    </a:lnTo>
                    <a:lnTo>
                      <a:pt x="366" y="1215"/>
                    </a:lnTo>
                    <a:lnTo>
                      <a:pt x="364" y="1193"/>
                    </a:lnTo>
                    <a:lnTo>
                      <a:pt x="357" y="1177"/>
                    </a:lnTo>
                    <a:lnTo>
                      <a:pt x="346" y="1159"/>
                    </a:lnTo>
                    <a:lnTo>
                      <a:pt x="334" y="1147"/>
                    </a:lnTo>
                    <a:lnTo>
                      <a:pt x="320" y="1136"/>
                    </a:lnTo>
                    <a:lnTo>
                      <a:pt x="301" y="1128"/>
                    </a:lnTo>
                    <a:lnTo>
                      <a:pt x="279" y="1120"/>
                    </a:lnTo>
                    <a:lnTo>
                      <a:pt x="256" y="1118"/>
                    </a:lnTo>
                    <a:lnTo>
                      <a:pt x="237" y="1115"/>
                    </a:lnTo>
                    <a:lnTo>
                      <a:pt x="215" y="1115"/>
                    </a:lnTo>
                    <a:lnTo>
                      <a:pt x="196" y="1118"/>
                    </a:lnTo>
                    <a:lnTo>
                      <a:pt x="177" y="1119"/>
                    </a:lnTo>
                    <a:lnTo>
                      <a:pt x="158" y="1122"/>
                    </a:lnTo>
                    <a:lnTo>
                      <a:pt x="138" y="1124"/>
                    </a:lnTo>
                    <a:lnTo>
                      <a:pt x="106" y="1124"/>
                    </a:lnTo>
                    <a:lnTo>
                      <a:pt x="86" y="1123"/>
                    </a:lnTo>
                    <a:lnTo>
                      <a:pt x="64" y="1118"/>
                    </a:lnTo>
                    <a:lnTo>
                      <a:pt x="49" y="1110"/>
                    </a:lnTo>
                    <a:lnTo>
                      <a:pt x="32" y="1097"/>
                    </a:lnTo>
                    <a:lnTo>
                      <a:pt x="21" y="1083"/>
                    </a:lnTo>
                    <a:lnTo>
                      <a:pt x="13" y="1068"/>
                    </a:lnTo>
                    <a:lnTo>
                      <a:pt x="4" y="1038"/>
                    </a:lnTo>
                    <a:lnTo>
                      <a:pt x="3" y="1008"/>
                    </a:lnTo>
                    <a:lnTo>
                      <a:pt x="1" y="977"/>
                    </a:lnTo>
                    <a:lnTo>
                      <a:pt x="0" y="939"/>
                    </a:lnTo>
                    <a:lnTo>
                      <a:pt x="3" y="905"/>
                    </a:lnTo>
                    <a:lnTo>
                      <a:pt x="4" y="870"/>
                    </a:lnTo>
                    <a:lnTo>
                      <a:pt x="5" y="838"/>
                    </a:lnTo>
                    <a:lnTo>
                      <a:pt x="8" y="804"/>
                    </a:lnTo>
                    <a:lnTo>
                      <a:pt x="12" y="779"/>
                    </a:lnTo>
                    <a:lnTo>
                      <a:pt x="16" y="751"/>
                    </a:lnTo>
                    <a:lnTo>
                      <a:pt x="21" y="729"/>
                    </a:lnTo>
                    <a:lnTo>
                      <a:pt x="28" y="715"/>
                    </a:lnTo>
                    <a:lnTo>
                      <a:pt x="40" y="701"/>
                    </a:lnTo>
                    <a:lnTo>
                      <a:pt x="51" y="692"/>
                    </a:lnTo>
                    <a:lnTo>
                      <a:pt x="67" y="682"/>
                    </a:lnTo>
                    <a:lnTo>
                      <a:pt x="81" y="679"/>
                    </a:lnTo>
                    <a:lnTo>
                      <a:pt x="99" y="675"/>
                    </a:lnTo>
                    <a:lnTo>
                      <a:pt x="122" y="674"/>
                    </a:lnTo>
                    <a:lnTo>
                      <a:pt x="142" y="675"/>
                    </a:lnTo>
                    <a:lnTo>
                      <a:pt x="170" y="679"/>
                    </a:lnTo>
                    <a:lnTo>
                      <a:pt x="195" y="680"/>
                    </a:lnTo>
                    <a:lnTo>
                      <a:pt x="215" y="682"/>
                    </a:lnTo>
                    <a:lnTo>
                      <a:pt x="243" y="683"/>
                    </a:lnTo>
                    <a:lnTo>
                      <a:pt x="273" y="679"/>
                    </a:lnTo>
                    <a:lnTo>
                      <a:pt x="297" y="674"/>
                    </a:lnTo>
                    <a:lnTo>
                      <a:pt x="320" y="665"/>
                    </a:lnTo>
                    <a:lnTo>
                      <a:pt x="336" y="656"/>
                    </a:lnTo>
                    <a:lnTo>
                      <a:pt x="351" y="642"/>
                    </a:lnTo>
                    <a:lnTo>
                      <a:pt x="362" y="624"/>
                    </a:lnTo>
                    <a:lnTo>
                      <a:pt x="370" y="606"/>
                    </a:lnTo>
                    <a:lnTo>
                      <a:pt x="373" y="587"/>
                    </a:lnTo>
                    <a:lnTo>
                      <a:pt x="371" y="573"/>
                    </a:lnTo>
                    <a:lnTo>
                      <a:pt x="370" y="546"/>
                    </a:lnTo>
                    <a:lnTo>
                      <a:pt x="371" y="519"/>
                    </a:lnTo>
                    <a:lnTo>
                      <a:pt x="377" y="499"/>
                    </a:lnTo>
                    <a:lnTo>
                      <a:pt x="383" y="479"/>
                    </a:lnTo>
                    <a:lnTo>
                      <a:pt x="392" y="465"/>
                    </a:lnTo>
                    <a:lnTo>
                      <a:pt x="410" y="451"/>
                    </a:lnTo>
                    <a:lnTo>
                      <a:pt x="429" y="441"/>
                    </a:lnTo>
                    <a:lnTo>
                      <a:pt x="453" y="433"/>
                    </a:lnTo>
                    <a:lnTo>
                      <a:pt x="478" y="427"/>
                    </a:lnTo>
                    <a:lnTo>
                      <a:pt x="498" y="422"/>
                    </a:lnTo>
                    <a:lnTo>
                      <a:pt x="524" y="418"/>
                    </a:lnTo>
                    <a:lnTo>
                      <a:pt x="548" y="413"/>
                    </a:lnTo>
                    <a:lnTo>
                      <a:pt x="576" y="405"/>
                    </a:lnTo>
                    <a:lnTo>
                      <a:pt x="603" y="394"/>
                    </a:lnTo>
                    <a:lnTo>
                      <a:pt x="626" y="37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3965040"/>
                <a:ext cx="1836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581280" y="3581280"/>
              <a:ext cx="28195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2. Stimolare le PMI verso la ricerca e l’innovazione</a:t>
              </a:r>
              <a:r>
                <a:rPr b="1" lang="en-GB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752480" y="1828800"/>
            <a:ext cx="3124080" cy="2443320"/>
            <a:chOff x="1752480" y="1828800"/>
            <a:chExt cx="3124080" cy="2443320"/>
          </a:xfrm>
        </p:grpSpPr>
        <p:sp>
          <p:nvSpPr>
            <p:cNvPr id="126" name=""/>
            <p:cNvSpPr/>
            <p:nvPr/>
          </p:nvSpPr>
          <p:spPr>
            <a:xfrm>
              <a:off x="1752480" y="1828800"/>
              <a:ext cx="3124080" cy="2443320"/>
            </a:xfrm>
            <a:custGeom>
              <a:avLst/>
              <a:gdLst/>
              <a:ahLst/>
              <a:rect l="l" t="t" r="r" b="b"/>
              <a:pathLst>
                <a:path w="1484" h="1203">
                  <a:moveTo>
                    <a:pt x="1483" y="299"/>
                  </a:moveTo>
                  <a:lnTo>
                    <a:pt x="1483" y="0"/>
                  </a:lnTo>
                  <a:lnTo>
                    <a:pt x="0" y="0"/>
                  </a:lnTo>
                  <a:lnTo>
                    <a:pt x="1" y="1202"/>
                  </a:lnTo>
                  <a:lnTo>
                    <a:pt x="133" y="1202"/>
                  </a:lnTo>
                  <a:lnTo>
                    <a:pt x="140" y="1179"/>
                  </a:lnTo>
                  <a:lnTo>
                    <a:pt x="140" y="1163"/>
                  </a:lnTo>
                  <a:lnTo>
                    <a:pt x="136" y="1140"/>
                  </a:lnTo>
                  <a:lnTo>
                    <a:pt x="128" y="1115"/>
                  </a:lnTo>
                  <a:lnTo>
                    <a:pt x="120" y="1086"/>
                  </a:lnTo>
                  <a:lnTo>
                    <a:pt x="116" y="1063"/>
                  </a:lnTo>
                  <a:lnTo>
                    <a:pt x="115" y="1043"/>
                  </a:lnTo>
                  <a:lnTo>
                    <a:pt x="119" y="1019"/>
                  </a:lnTo>
                  <a:lnTo>
                    <a:pt x="125" y="998"/>
                  </a:lnTo>
                  <a:lnTo>
                    <a:pt x="140" y="976"/>
                  </a:lnTo>
                  <a:lnTo>
                    <a:pt x="156" y="959"/>
                  </a:lnTo>
                  <a:lnTo>
                    <a:pt x="174" y="943"/>
                  </a:lnTo>
                  <a:lnTo>
                    <a:pt x="195" y="931"/>
                  </a:lnTo>
                  <a:lnTo>
                    <a:pt x="219" y="921"/>
                  </a:lnTo>
                  <a:lnTo>
                    <a:pt x="241" y="917"/>
                  </a:lnTo>
                  <a:lnTo>
                    <a:pt x="271" y="916"/>
                  </a:lnTo>
                  <a:lnTo>
                    <a:pt x="307" y="918"/>
                  </a:lnTo>
                  <a:lnTo>
                    <a:pt x="330" y="921"/>
                  </a:lnTo>
                  <a:lnTo>
                    <a:pt x="351" y="927"/>
                  </a:lnTo>
                  <a:lnTo>
                    <a:pt x="370" y="939"/>
                  </a:lnTo>
                  <a:lnTo>
                    <a:pt x="394" y="958"/>
                  </a:lnTo>
                  <a:lnTo>
                    <a:pt x="410" y="976"/>
                  </a:lnTo>
                  <a:lnTo>
                    <a:pt x="424" y="995"/>
                  </a:lnTo>
                  <a:lnTo>
                    <a:pt x="431" y="1016"/>
                  </a:lnTo>
                  <a:lnTo>
                    <a:pt x="437" y="1035"/>
                  </a:lnTo>
                  <a:lnTo>
                    <a:pt x="437" y="1057"/>
                  </a:lnTo>
                  <a:lnTo>
                    <a:pt x="434" y="1078"/>
                  </a:lnTo>
                  <a:lnTo>
                    <a:pt x="429" y="1099"/>
                  </a:lnTo>
                  <a:lnTo>
                    <a:pt x="424" y="1118"/>
                  </a:lnTo>
                  <a:lnTo>
                    <a:pt x="417" y="1138"/>
                  </a:lnTo>
                  <a:lnTo>
                    <a:pt x="413" y="1159"/>
                  </a:lnTo>
                  <a:lnTo>
                    <a:pt x="413" y="1177"/>
                  </a:lnTo>
                  <a:lnTo>
                    <a:pt x="419" y="1197"/>
                  </a:lnTo>
                  <a:lnTo>
                    <a:pt x="667" y="1197"/>
                  </a:lnTo>
                  <a:lnTo>
                    <a:pt x="664" y="1155"/>
                  </a:lnTo>
                  <a:lnTo>
                    <a:pt x="667" y="1124"/>
                  </a:lnTo>
                  <a:lnTo>
                    <a:pt x="667" y="1101"/>
                  </a:lnTo>
                  <a:lnTo>
                    <a:pt x="668" y="1080"/>
                  </a:lnTo>
                  <a:lnTo>
                    <a:pt x="671" y="1057"/>
                  </a:lnTo>
                  <a:lnTo>
                    <a:pt x="676" y="1034"/>
                  </a:lnTo>
                  <a:lnTo>
                    <a:pt x="682" y="1018"/>
                  </a:lnTo>
                  <a:lnTo>
                    <a:pt x="691" y="1004"/>
                  </a:lnTo>
                  <a:lnTo>
                    <a:pt x="704" y="993"/>
                  </a:lnTo>
                  <a:lnTo>
                    <a:pt x="718" y="984"/>
                  </a:lnTo>
                  <a:lnTo>
                    <a:pt x="735" y="979"/>
                  </a:lnTo>
                  <a:lnTo>
                    <a:pt x="753" y="976"/>
                  </a:lnTo>
                  <a:lnTo>
                    <a:pt x="769" y="975"/>
                  </a:lnTo>
                  <a:lnTo>
                    <a:pt x="791" y="975"/>
                  </a:lnTo>
                  <a:lnTo>
                    <a:pt x="812" y="976"/>
                  </a:lnTo>
                  <a:lnTo>
                    <a:pt x="828" y="979"/>
                  </a:lnTo>
                  <a:lnTo>
                    <a:pt x="850" y="980"/>
                  </a:lnTo>
                  <a:lnTo>
                    <a:pt x="873" y="982"/>
                  </a:lnTo>
                  <a:lnTo>
                    <a:pt x="899" y="982"/>
                  </a:lnTo>
                  <a:lnTo>
                    <a:pt x="920" y="980"/>
                  </a:lnTo>
                  <a:lnTo>
                    <a:pt x="942" y="976"/>
                  </a:lnTo>
                  <a:lnTo>
                    <a:pt x="965" y="971"/>
                  </a:lnTo>
                  <a:lnTo>
                    <a:pt x="982" y="962"/>
                  </a:lnTo>
                  <a:lnTo>
                    <a:pt x="1000" y="950"/>
                  </a:lnTo>
                  <a:lnTo>
                    <a:pt x="1011" y="935"/>
                  </a:lnTo>
                  <a:lnTo>
                    <a:pt x="1023" y="918"/>
                  </a:lnTo>
                  <a:lnTo>
                    <a:pt x="1028" y="902"/>
                  </a:lnTo>
                  <a:lnTo>
                    <a:pt x="1031" y="883"/>
                  </a:lnTo>
                  <a:lnTo>
                    <a:pt x="1028" y="863"/>
                  </a:lnTo>
                  <a:lnTo>
                    <a:pt x="1027" y="843"/>
                  </a:lnTo>
                  <a:lnTo>
                    <a:pt x="1028" y="821"/>
                  </a:lnTo>
                  <a:lnTo>
                    <a:pt x="1032" y="805"/>
                  </a:lnTo>
                  <a:lnTo>
                    <a:pt x="1037" y="787"/>
                  </a:lnTo>
                  <a:lnTo>
                    <a:pt x="1045" y="770"/>
                  </a:lnTo>
                  <a:lnTo>
                    <a:pt x="1055" y="759"/>
                  </a:lnTo>
                  <a:lnTo>
                    <a:pt x="1072" y="747"/>
                  </a:lnTo>
                  <a:lnTo>
                    <a:pt x="1092" y="739"/>
                  </a:lnTo>
                  <a:lnTo>
                    <a:pt x="1113" y="733"/>
                  </a:lnTo>
                  <a:lnTo>
                    <a:pt x="1132" y="728"/>
                  </a:lnTo>
                  <a:lnTo>
                    <a:pt x="1152" y="723"/>
                  </a:lnTo>
                  <a:lnTo>
                    <a:pt x="1179" y="718"/>
                  </a:lnTo>
                  <a:lnTo>
                    <a:pt x="1200" y="714"/>
                  </a:lnTo>
                  <a:lnTo>
                    <a:pt x="1221" y="707"/>
                  </a:lnTo>
                  <a:lnTo>
                    <a:pt x="1239" y="701"/>
                  </a:lnTo>
                  <a:lnTo>
                    <a:pt x="1257" y="693"/>
                  </a:lnTo>
                  <a:lnTo>
                    <a:pt x="1271" y="683"/>
                  </a:lnTo>
                  <a:lnTo>
                    <a:pt x="1284" y="673"/>
                  </a:lnTo>
                  <a:lnTo>
                    <a:pt x="1298" y="656"/>
                  </a:lnTo>
                  <a:lnTo>
                    <a:pt x="1307" y="641"/>
                  </a:lnTo>
                  <a:lnTo>
                    <a:pt x="1315" y="623"/>
                  </a:lnTo>
                  <a:lnTo>
                    <a:pt x="1319" y="600"/>
                  </a:lnTo>
                  <a:lnTo>
                    <a:pt x="1316" y="581"/>
                  </a:lnTo>
                  <a:lnTo>
                    <a:pt x="1314" y="560"/>
                  </a:lnTo>
                  <a:lnTo>
                    <a:pt x="1307" y="536"/>
                  </a:lnTo>
                  <a:lnTo>
                    <a:pt x="1301" y="509"/>
                  </a:lnTo>
                  <a:lnTo>
                    <a:pt x="1294" y="485"/>
                  </a:lnTo>
                  <a:lnTo>
                    <a:pt x="1293" y="466"/>
                  </a:lnTo>
                  <a:lnTo>
                    <a:pt x="1293" y="448"/>
                  </a:lnTo>
                  <a:lnTo>
                    <a:pt x="1296" y="423"/>
                  </a:lnTo>
                  <a:lnTo>
                    <a:pt x="1302" y="403"/>
                  </a:lnTo>
                  <a:lnTo>
                    <a:pt x="1308" y="388"/>
                  </a:lnTo>
                  <a:lnTo>
                    <a:pt x="1317" y="372"/>
                  </a:lnTo>
                  <a:lnTo>
                    <a:pt x="1330" y="356"/>
                  </a:lnTo>
                  <a:lnTo>
                    <a:pt x="1344" y="339"/>
                  </a:lnTo>
                  <a:lnTo>
                    <a:pt x="1362" y="325"/>
                  </a:lnTo>
                  <a:lnTo>
                    <a:pt x="1381" y="313"/>
                  </a:lnTo>
                  <a:lnTo>
                    <a:pt x="1399" y="307"/>
                  </a:lnTo>
                  <a:lnTo>
                    <a:pt x="1417" y="302"/>
                  </a:lnTo>
                  <a:lnTo>
                    <a:pt x="1436" y="299"/>
                  </a:lnTo>
                  <a:lnTo>
                    <a:pt x="1459" y="299"/>
                  </a:lnTo>
                  <a:lnTo>
                    <a:pt x="1483" y="299"/>
                  </a:lnTo>
                </a:path>
              </a:pathLst>
            </a:custGeom>
            <a:solidFill>
              <a:srgbClr val="ff0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52480" y="2286000"/>
              <a:ext cx="28195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. Costituire la piattaforma di lavoro 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Il progetto in num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981080"/>
            <a:ext cx="8381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rganizzazione di </a:t>
            </a:r>
            <a:r>
              <a:rPr b="1" lang="it-IT" sz="2400" spc="-1" strike="noStrike" u="sng">
                <a:solidFill>
                  <a:srgbClr val="333399"/>
                </a:solidFill>
                <a:uFillTx/>
                <a:latin typeface="Tahoma"/>
              </a:rPr>
              <a:t>18 seminar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promuovere 6°PQ nei paesi 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lizzazione di </a:t>
            </a:r>
            <a:r>
              <a:rPr b="1" lang="it-IT" sz="2400" spc="-1" strike="noStrike" u="sng">
                <a:solidFill>
                  <a:srgbClr val="333399"/>
                </a:solidFill>
                <a:uFillTx/>
                <a:latin typeface="Tahoma"/>
              </a:rPr>
              <a:t>13 casi di studi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l’analisi del fattore 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lizzazione di </a:t>
            </a:r>
            <a:r>
              <a:rPr b="1" lang="it-IT" sz="2400" spc="-1" strike="noStrike" u="sng">
                <a:solidFill>
                  <a:srgbClr val="333399"/>
                </a:solidFill>
                <a:uFillTx/>
                <a:latin typeface="Tahoma"/>
              </a:rPr>
              <a:t>130 audit di benchmarking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 dei relativi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rganizzazione di </a:t>
            </a:r>
            <a:r>
              <a:rPr b="1" lang="it-IT" sz="2400" spc="-1" strike="noStrike" u="sng">
                <a:solidFill>
                  <a:srgbClr val="333399"/>
                </a:solidFill>
                <a:uFillTx/>
                <a:latin typeface="Tahoma"/>
              </a:rPr>
              <a:t>18 workshops final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promuovere i risultati del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105520"/>
            <a:ext cx="739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cc3300"/>
                </a:solidFill>
                <a:latin typeface="Tahoma"/>
              </a:rPr>
              <a:t>305 richieste di ricerca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Tahoma"/>
              </a:rPr>
              <a:t>110 PMI coinvolte in proposte di pro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952880"/>
            <a:ext cx="609840" cy="1295640"/>
          </a:xfrm>
          <a:custGeom>
            <a:avLst/>
            <a:gdLst>
              <a:gd name="textAreaLeft" fmla="*/ 81720 w 609840"/>
              <a:gd name="textAreaRight" fmla="*/ 528120 w 6098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876920"/>
            <a:ext cx="457200" cy="1143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Costituzione di un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Network di almeno 20 espert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(cosiddetti “innovation leaders”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Individuazione di proposte di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progetti europe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 a cui far partecipare le PMI, con il supporto di network pre-esistenti (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TRANET, AUTEX, EURATEX, EART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Definizione delle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Best Practices,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omprendenti il ruolo del fattore umano nell’adozione dell’innov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Attivazione della rete degli esperti per la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validazio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 della best practices e la successiva </a:t>
            </a: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diffusio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 al fine di motivare i lavoratori verso il nuovo approccio all’innov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Il progetto nel concr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  <a:ea typeface="Tahoma"/>
              </a:rPr>
              <a:t>Possibilità di sviluppare concretamente attività di R&amp;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  <a:ea typeface="Tahoma"/>
              </a:rPr>
              <a:t>Creazione di nuove partnership o collaborazion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  <a:ea typeface="Tahoma"/>
              </a:rPr>
              <a:t>Acquisizione della proprietà dei risultati della ricerc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  <a:ea typeface="Tahoma"/>
              </a:rPr>
              <a:t>Crescita delle competenze inter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  <a:ea typeface="Tahoma"/>
              </a:rPr>
              <a:t>Apprendimento dei meccanismi di funzionamento dei programmi comunitar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99"/>
                </a:solidFill>
                <a:latin typeface="Tahoma"/>
                <a:ea typeface="Tahoma"/>
              </a:rPr>
              <a:t>Ottenimento del contributo economico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333399"/>
                </a:solidFill>
                <a:latin typeface="Tahoma"/>
              </a:rPr>
              <a:t>Perché partecip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904760" y="32763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ff0000"/>
                </a:solidFill>
                <a:latin typeface="Tahoma"/>
                <a:ea typeface="Tahoma"/>
              </a:rPr>
              <a:t>www.fashionnet.org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333399"/>
                </a:solidFill>
                <a:latin typeface="Tahoma"/>
              </a:rPr>
              <a:t>A chi rivolgers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8:59:03Z</dcterms:created>
  <dc:creator>nena malliou</dc:creator>
  <dc:description/>
  <dc:language>en-US</dc:language>
  <cp:lastModifiedBy>Enrico Venturini</cp:lastModifiedBy>
  <dcterms:modified xsi:type="dcterms:W3CDTF">2005-02-03T10:15:55Z</dcterms:modified>
  <cp:revision>56</cp:revision>
  <dc:subject/>
  <dc:title>PowerPoint Presentation</dc:title>
</cp:coreProperties>
</file>