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107-3C53-49FF-ABB9-E0049F2E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A77-8244-43E6-9211-5282C612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53F-0E7D-4D24-8361-2C25F1DD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C03-E810-40B0-8B74-7554A4C7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12BD-9452-440D-8D69-ED7851F9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510A-281B-40D2-91A2-5F4BABE4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3030-58EB-42CA-A793-BB435ABD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3F7A-5ABB-4DFC-AEA8-B47892AD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24F0-750F-4A52-B132-3F018773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650F-3D9E-4C42-AB6C-EE8B5C47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306E-4AB8-470E-946F-D39A2B0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3DF-9E9A-4F2F-A8AC-97859B38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C0C8-0C7A-49F3-BEE5-25136A84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EDE8-A499-4E06-A732-7C1F90A1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900F-CC37-44C7-9C58-39B96BBD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7152-891A-41A9-849F-27BF3860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B0CD-D7D6-4450-8568-41C44F75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B53-02E3-4909-A013-1648208B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40B-7CFB-4445-8EDD-860537A1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07A-816B-4AD2-BE99-2BA920C8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C67-81CB-49EB-8648-D07C702F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037-CBE1-4B65-8644-8C974C9B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9E6-DD66-4636-8D92-24B22964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821-20CF-4549-918F-9452BEF1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3651-39D7-40A9-A855-4F1EFA761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091F-E04F-4A1B-BB6C-A25E685BC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Attuazione delle politiche economiche</a:t>
            </a:r>
            <a:br>
              <a:rPr sz="3700"/>
            </a:b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per il recupero della competitività nei settori maturi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Prof. Ernesto Somm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Università degli Studi di Bar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sto del lavor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12000" y="3141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sto del lavor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16720" y="2492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vestiment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932360" y="2997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rformance commercia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659640" y="3573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rformance commercia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51640" y="3357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li effetti della liberalizzazione degli scambi post 2005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I maggiori benefici derivanti dall’abolizione del sistema delle quote saranno appannaggio della C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I più danneggiati saranno i produttori europ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I Paesi UE meno colpiti saranno quelli con una maggiore propensione all’export extra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Gli effetti saranno tanto maggiori quanto più lento sarà il processo di ulteriore differenziazione delle produzioni europ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L’impatto negativo totale sulla produzione, nei prossimi 15 anni, varia da -6% (tessile) al -8% dell’abbigli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Nel medio periodo il benessere sociale aumenter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e politiche per la competitività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stegno ai processi di innovazi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stegno allo sviluppo delle H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sure che favoriscano la crescita dimensionale delle impre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cesso al credito e a strumenti di finanza innovativ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utela dei diritti di proprietà intellettua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sure di sostegno alla riconversi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e politiche per la competitività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Sostegno ai processi di innovazi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teri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oces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mercio elettro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zioni di virtualizazzione, supply chain management ed e-bus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e politiche per la competitività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912000" cy="4105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1773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novation Scoreboard for textile, clothing and footware, E-business Watch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stacoli alla diffusione dell’e-busines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mensione molto picco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ultura “conservatrice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enza di figure professionali dedicate in aziend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terogeneità dei sistemi informativi che limita le possibilità di integrazi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na citazione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84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Arial"/>
              </a:rPr>
              <a:t>To fight the cheaper imports from Asia, coming on stream we have advances in </a:t>
            </a:r>
            <a:r>
              <a:rPr b="0" i="1" lang="it-IT" sz="3100" spc="-1" strike="noStrike">
                <a:solidFill>
                  <a:srgbClr val="99cc00"/>
                </a:solidFill>
                <a:latin typeface="Arial"/>
              </a:rPr>
              <a:t>new technology</a:t>
            </a:r>
            <a:r>
              <a:rPr b="0" i="1" lang="it-IT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it-IT" sz="3100" spc="-1" strike="noStrike">
                <a:solidFill>
                  <a:srgbClr val="99cc00"/>
                </a:solidFill>
                <a:latin typeface="Arial"/>
              </a:rPr>
              <a:t>mass-customisation</a:t>
            </a:r>
            <a:r>
              <a:rPr b="0" i="1" lang="it-IT" sz="3100" spc="-1" strike="noStrike">
                <a:solidFill>
                  <a:srgbClr val="000000"/>
                </a:solidFill>
                <a:latin typeface="Arial"/>
              </a:rPr>
              <a:t>, which will radically change the competition conundrum. All of this is achievable. We simply have to believ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William Lakin, Director General of Euratex,2003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336666"/>
                </a:solidFill>
                <a:latin typeface="Arial Black"/>
              </a:rPr>
              <a:t>Mass Customisa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Aumenta la soddisfazione del cli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Accresce il mark-u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Difficile da realizzars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lessibilità dei processi produtti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formazioni sui cli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e politiche per la competitività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Sostegno allo sviluppo delle H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ow wage low sk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Misure che favoriscano la crescita dimensionale delle impre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e politiche per la competitività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cesso al credito e a strumenti di finanza innovativ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utela dei diritti di proprietà intellettua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sure di sostegno alla riconversi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li attori delle politich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one Europe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tiche commerci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olamen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tiche di coesione reg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li attori delle politich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Sta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gevolazioni fiscali e non per la R&amp;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olitiche di internazionalizz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iberalizzazione dei merc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li attori delle politich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 Regi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ove competenze in materia di sviluppo ex riforma del Titolo V della Costitu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azione ed attuazione del Programma Operativo Reg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se istituzionali di program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tiche di attrazione degli investim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li attori delle politich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 Regi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Q Università Puglie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vio dei P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sione regimi di ai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Q TAC e APQ Mob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ue concetti chiav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novazione tecnologic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sonalizzazione di mass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a competizione nei settori matur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imedi alla concorrenza di prezz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e all’entr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rtamenti strateg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ziazione di prodot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arriere all’entrat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l mercato della moda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 barriere strutturali sono bas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lle artificiali (quote o tariffe) non sono più possibili o comunque sempre meno importa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mportamenti strategic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 dimensione relativamente piccola delle imprese e la struttura fortemente decentrata del mercato impediscono l’esercizio di potere di merca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ifferenziazione di prodott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 differenziazione può avvenire lungo molte dimensioni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ore del br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uto tecnolo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zione/commercializz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mpetitività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ttori che occorre considerare in un’analisi della competitivit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duttivit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sto del lavor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formance commercia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lità dei prodott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’importanza è strettamente legata alla fascia bassa/media/alta dei prodot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duttività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360" y="3213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18:39Z</dcterms:created>
  <dc:creator> </dc:creator>
  <dc:description/>
  <dc:language>en-US</dc:language>
  <cp:lastModifiedBy> </cp:lastModifiedBy>
  <dcterms:modified xsi:type="dcterms:W3CDTF">2005-02-04T06:55:27Z</dcterms:modified>
  <cp:revision>34</cp:revision>
  <dc:subject/>
  <dc:title>Attuazione delle politiche economiche per il recupero della competitività nei settori maturi</dc:title>
</cp:coreProperties>
</file>