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BA54-E661-4A16-A50F-937D7DA62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7AD0-A87C-4CBD-AE67-1400FAFBA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10DD-8B46-46DC-8651-D0FD25EB6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BD0D-4B77-45C0-B7D6-37013AA26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97976-2C20-4BCC-A544-6BE68ED77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934A3-C9E6-45D4-8817-BDE925EB4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5C583-2523-4A94-B1BB-13EE2BD4C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FA39B-DFDF-43EF-B7C1-6D0B2ABFB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97B61-FF59-44AD-AF80-3A271CF31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8A15C-5CCC-4764-A495-F8D669E4A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BD16E-E5F6-4938-A15A-C3EC1F9A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878D-D7FD-434B-BB79-3E434A3AF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4C7CA-1B5C-4CE4-866C-AA2E989C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C8E69-57DD-4037-99F3-32AACABD0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62D41-CA81-42DA-90DD-76CD8F844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7926D-E820-4EA8-817B-885DF9E75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CA490-D0CF-4E18-9BCF-92BFB9447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9212-AA1F-4155-889E-AEE59FD25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82C6-021F-4EB7-886D-3FAB79BE6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3830-90C5-45B1-B7E8-3EB7BB6AD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5DF2-6128-45CF-94F6-CF279BF0F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6E24-216F-488C-9FCE-BF2B1EF1E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E952-8E37-4C82-8395-A81F4F390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02D3-E4D1-4224-9DB4-BD2F3A08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D4794-F438-41B6-BA47-F22FB3B09F97}" type="slidenum">
              <a:rPr b="0" lang="it-IT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2B51A-C174-408B-8932-2302344B3308}" type="slidenum">
              <a:rPr b="0" lang="it-IT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700" spc="-1" strike="noStrike">
                <a:solidFill>
                  <a:srgbClr val="ffffcc"/>
                </a:solidFill>
                <a:latin typeface="Arial"/>
              </a:rPr>
              <a:t>Sistema intelligente di gestione della movimentazione dei mezzi di soccorso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52480" y="3733920"/>
            <a:ext cx="5923080" cy="286524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it-IT" sz="1600" spc="-1" strike="noStrike" u="sng">
                <a:solidFill>
                  <a:srgbClr val="000000"/>
                </a:solidFill>
                <a:uFillTx/>
                <a:latin typeface="Arial"/>
              </a:rPr>
              <a:t>Ideato e sviluppato da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Nicola Tursi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aureando in Ingegneria Gestionale presso il Politecnico di Bari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 u="sng">
                <a:solidFill>
                  <a:srgbClr val="000000"/>
                </a:solidFill>
                <a:uFillTx/>
                <a:latin typeface="Arial"/>
              </a:rPr>
              <a:t>Consulenza tecnico-scientifica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rof.Ing. Vito Albino, docente presso il Politecnico di Bari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ng. Giuseppe Di Gregorio, ingegnere clinico, Servizio 118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ng. Vito Angiulli, responsabile organizzazione Servizio 118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Regione Basilicata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cc"/>
                </a:solidFill>
                <a:latin typeface="Arial"/>
              </a:rPr>
              <a:t>Procedura operativ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eaeaea"/>
                </a:solidFill>
                <a:latin typeface="Verdana"/>
              </a:rPr>
              <a:t>Arrivo</a:t>
            </a:r>
            <a:r>
              <a:rPr b="0" lang="it-IT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it-IT" sz="2400" spc="-1" strike="noStrike">
                <a:solidFill>
                  <a:srgbClr val="eaeaea"/>
                </a:solidFill>
                <a:latin typeface="Verdana"/>
              </a:rPr>
              <a:t>chiamata</a:t>
            </a:r>
            <a:r>
              <a:rPr b="0" lang="it-IT" sz="2400" spc="-1" strike="noStrike">
                <a:solidFill>
                  <a:srgbClr val="eaeaea"/>
                </a:solidFill>
                <a:latin typeface="Verdana"/>
              </a:rPr>
              <a:t> in centrale operativa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eaeaea"/>
                </a:solidFill>
                <a:latin typeface="Verdana"/>
              </a:rPr>
              <a:t>Immissione</a:t>
            </a:r>
            <a:r>
              <a:rPr b="0" lang="it-IT" sz="2400" spc="-1" strike="noStrike">
                <a:solidFill>
                  <a:srgbClr val="eaeaea"/>
                </a:solidFill>
                <a:latin typeface="Verdana"/>
              </a:rPr>
              <a:t>, nel sistema, dei dati ambientali ed operativi caratterizzanti l’intervento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eaeaea"/>
                </a:solidFill>
                <a:latin typeface="Verdana"/>
              </a:rPr>
              <a:t>Individuazione</a:t>
            </a:r>
            <a:r>
              <a:rPr b="0" lang="it-IT" sz="2400" spc="-1" strike="noStrike">
                <a:solidFill>
                  <a:srgbClr val="eaeaea"/>
                </a:solidFill>
                <a:latin typeface="Verdana"/>
              </a:rPr>
              <a:t> dei mezzi e delle postazioni territoriali idonee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eaeaea"/>
                </a:solidFill>
                <a:latin typeface="Verdana"/>
              </a:rPr>
              <a:t>Scelta</a:t>
            </a:r>
            <a:r>
              <a:rPr b="0" lang="it-IT" sz="2400" spc="-1" strike="noStrike">
                <a:solidFill>
                  <a:srgbClr val="eaeaea"/>
                </a:solidFill>
                <a:latin typeface="Verdana"/>
              </a:rPr>
              <a:t> della postazione più adatta per condizioni ambientali, tempi e/o distanze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eaeaea"/>
                </a:solidFill>
                <a:latin typeface="Verdana"/>
              </a:rPr>
              <a:t>Valutazione dinamica</a:t>
            </a:r>
            <a:r>
              <a:rPr b="0" lang="it-IT" sz="2400" spc="-1" strike="noStrike">
                <a:solidFill>
                  <a:srgbClr val="eaeaea"/>
                </a:solidFill>
                <a:latin typeface="Verdana"/>
              </a:rPr>
              <a:t> e memorizzazione, in base alla tipologia, dei dati operativi caratterizzanti l’intervento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26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cc"/>
                </a:solidFill>
                <a:latin typeface="Arial"/>
              </a:rPr>
              <a:t>Caratteristiche innovativ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Utilizzo</a:t>
            </a:r>
            <a:r>
              <a:rPr b="0" lang="it-IT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di </a:t>
            </a:r>
            <a:r>
              <a:rPr b="1" lang="it-IT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Tecnologie ICT</a:t>
            </a:r>
            <a:r>
              <a:rPr b="0" lang="it-IT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 a supporto dell’organizzazione logistica dei servizi di primo soccorso offerti al cittadino, integrate con un sistema di monitoraggio del traffico e implementate in un software capace di autoapprendimento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                       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                         </a:t>
            </a:r>
            <a:r>
              <a:rPr b="0" lang="it-IT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Il tutto </a:t>
            </a:r>
            <a:r>
              <a:rPr b="1" lang="it-IT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finalizzato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                    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                     </a:t>
            </a:r>
            <a:r>
              <a:rPr b="0" lang="it-IT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all’</a:t>
            </a:r>
            <a:r>
              <a:rPr b="1" lang="it-IT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ottimizzazione</a:t>
            </a:r>
            <a:r>
              <a:rPr b="1" lang="it-IT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   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 </a:t>
            </a:r>
            <a:r>
              <a:rPr b="1" lang="it-IT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della</a:t>
            </a:r>
            <a:r>
              <a:rPr b="0" lang="it-IT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 </a:t>
            </a:r>
            <a:r>
              <a:rPr b="1" lang="it-IT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gestione delle attività di primo soccorso</a:t>
            </a:r>
            <a:r>
              <a:rPr b="0" lang="it-IT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752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Interazione</a:t>
            </a:r>
            <a:r>
              <a:rPr b="0" lang="it-IT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 fra il monitoraggio dei flussi di traffico e delle condizioni ambientali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Estrema </a:t>
            </a:r>
            <a:r>
              <a:rPr b="1" lang="it-IT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flessibilità</a:t>
            </a:r>
            <a:r>
              <a:rPr b="0" lang="it-IT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, </a:t>
            </a:r>
            <a:r>
              <a:rPr b="1" lang="it-IT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versatilità </a:t>
            </a:r>
            <a:r>
              <a:rPr b="0" lang="it-IT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e </a:t>
            </a:r>
            <a:r>
              <a:rPr b="1" lang="it-IT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adattabilità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Coordinamento </a:t>
            </a:r>
            <a:r>
              <a:rPr b="0" lang="it-IT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più efficace ed immediato</a:t>
            </a:r>
            <a:r>
              <a:rPr b="1" lang="it-IT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Ottimizzazione dell’utilizzo</a:t>
            </a:r>
            <a:r>
              <a:rPr b="0" lang="it-IT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 di risorse umane, economiche e di tempo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cc"/>
                </a:solidFill>
                <a:latin typeface="Arial"/>
              </a:rPr>
              <a:t>Caratteristiche innovativ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cc"/>
                </a:solidFill>
                <a:latin typeface="Arial"/>
              </a:rPr>
              <a:t>Mercato di riferimento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Mezzi di soccorso di varia tipologia</a:t>
            </a:r>
            <a:r>
              <a:rPr b="0" lang="it-IT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 (autopompe dei vigili del fuoco, auto della polizia, carabinieri, guardia di finanza, protezione civile, Servizio 118)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Associazioni “</a:t>
            </a:r>
            <a:r>
              <a:rPr b="1" i="1" lang="it-IT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no profit</a:t>
            </a:r>
            <a:r>
              <a:rPr b="1" lang="it-IT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”</a:t>
            </a:r>
            <a:r>
              <a:rPr b="0" lang="it-IT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, per migliorare la gestione dei servizi offerti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Società di pubblico servizio</a:t>
            </a:r>
            <a:r>
              <a:rPr b="0" lang="it-IT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 (</a:t>
            </a:r>
            <a:r>
              <a:rPr b="0" i="1" lang="it-IT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es.</a:t>
            </a:r>
            <a:r>
              <a:rPr b="0" lang="it-IT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 </a:t>
            </a:r>
            <a:r>
              <a:rPr b="0" i="1" lang="it-IT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trasporti pubblici</a:t>
            </a:r>
            <a:r>
              <a:rPr b="0" lang="it-IT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), per rispondere più rapidamente alle richieste del cittadino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cc"/>
                </a:solidFill>
                <a:latin typeface="Arial"/>
              </a:rPr>
              <a:t>Concorrenz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Non esiste</a:t>
            </a:r>
            <a:r>
              <a:rPr b="0" lang="it-IT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, nella Regione Puglia, un sistema per la gestione logistica e organizzativa di mezzi di soccorso o di altra natura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2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 algn="just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Sistemi di gestione telematica del traffico urbano “</a:t>
            </a:r>
            <a:r>
              <a:rPr b="1" lang="it-IT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Modello</a:t>
            </a:r>
            <a:r>
              <a:rPr b="0" lang="it-IT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 </a:t>
            </a:r>
            <a:r>
              <a:rPr b="1" lang="it-IT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5T</a:t>
            </a:r>
            <a:r>
              <a:rPr b="0" lang="it-IT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” a Torino ed a Napoli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26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                            </a:t>
            </a:r>
            <a:r>
              <a:rPr b="1" i="1" lang="it-IT" sz="3600" spc="-1" strike="noStrike">
                <a:solidFill>
                  <a:srgbClr val="eaeaea"/>
                </a:solidFill>
                <a:latin typeface="Verdana"/>
                <a:ea typeface="Times New Roman"/>
              </a:rPr>
              <a:t>differenti</a:t>
            </a:r>
            <a:r>
              <a:rPr b="0" lang="it-IT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   </a:t>
            </a:r>
            <a:r>
              <a:rPr b="0" lang="it-IT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per metodologie operative e concezione informatica e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 </a:t>
            </a:r>
            <a:r>
              <a:rPr b="1" i="1" lang="it-IT" sz="3600" spc="-1" strike="noStrike">
                <a:solidFill>
                  <a:srgbClr val="eaeaea"/>
                </a:solidFill>
                <a:latin typeface="Verdana"/>
                <a:ea typeface="Times New Roman"/>
              </a:rPr>
              <a:t>non finalizzati</a:t>
            </a:r>
            <a:r>
              <a:rPr b="1" lang="it-IT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alla specifica gestione su larga scala del settore del soccorso pubblico</a:t>
            </a:r>
            <a:r>
              <a:rPr b="0" lang="it-IT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cc"/>
                </a:solidFill>
                <a:latin typeface="Arial"/>
              </a:rPr>
              <a:t>Costi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Indicativi e prescindenti dall’effettiva estensione territoriale del monitoraggio da effettuare: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aeaea"/>
                </a:solidFill>
                <a:latin typeface="Verdana"/>
              </a:rPr>
              <a:t>Brevetti e licenze:  € 8000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aeaea"/>
                </a:solidFill>
                <a:latin typeface="Verdana"/>
              </a:rPr>
              <a:t>Infrastruttura tecnologica:  € 65000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aeaea"/>
                </a:solidFill>
                <a:latin typeface="Verdana"/>
              </a:rPr>
              <a:t>               </a:t>
            </a:r>
            <a:r>
              <a:rPr b="0" i="1" lang="it-IT" sz="2400" spc="-1" strike="noStrike">
                <a:solidFill>
                  <a:srgbClr val="eaeaea"/>
                </a:solidFill>
                <a:latin typeface="Verdana"/>
              </a:rPr>
              <a:t>in molti casi già esistente</a:t>
            </a:r>
            <a:r>
              <a:rPr b="0" lang="it-IT" sz="24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aeaea"/>
                </a:solidFill>
                <a:latin typeface="Verdana"/>
              </a:rPr>
              <a:t>Consulenza informatica</a:t>
            </a:r>
            <a:r>
              <a:rPr b="0" lang="it-IT" sz="2400" spc="-1" strike="noStrike">
                <a:solidFill>
                  <a:srgbClr val="eaeaea"/>
                </a:solidFill>
                <a:latin typeface="Verdana"/>
              </a:rPr>
              <a:t>: € 80000/anno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1" i="1" lang="it-IT" sz="2800" spc="-1" strike="noStrike">
                <a:solidFill>
                  <a:srgbClr val="eaeaea"/>
                </a:solidFill>
                <a:latin typeface="Verdana"/>
              </a:rPr>
              <a:t>unico finanziamento necessario</a:t>
            </a:r>
            <a:r>
              <a:rPr b="0" lang="it-IT" sz="2400" spc="-1" strike="noStrike">
                <a:solidFill>
                  <a:srgbClr val="eaeaea"/>
                </a:solidFill>
                <a:latin typeface="Verdana"/>
              </a:rPr>
              <a:t> per la fase di realizzazione del software,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i="1" lang="it-IT" sz="2800" spc="-1" strike="noStrike">
                <a:solidFill>
                  <a:srgbClr val="eaeaea"/>
                </a:solidFill>
                <a:latin typeface="Verdana"/>
              </a:rPr>
              <a:t>anche in forma</a:t>
            </a:r>
            <a:r>
              <a:rPr b="1" lang="it-IT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it-IT" sz="2400" spc="-1" strike="noStrike">
                <a:solidFill>
                  <a:srgbClr val="eaeaea"/>
                </a:solidFill>
                <a:latin typeface="Verdana"/>
              </a:rPr>
              <a:t>di</a:t>
            </a:r>
            <a:r>
              <a:rPr b="1" lang="it-IT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it-IT" sz="2400" spc="-1" strike="noStrike">
                <a:solidFill>
                  <a:srgbClr val="eaeaea"/>
                </a:solidFill>
                <a:latin typeface="Verdana"/>
              </a:rPr>
              <a:t>consulenza/collaborazione di programmatori esperti in materia e successiva partecipazione agli utili di vendita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cc"/>
                </a:solidFill>
                <a:latin typeface="Arial"/>
              </a:rPr>
              <a:t>Ricavi e benefici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Miglioramento della qualità della vita</a:t>
            </a:r>
            <a:r>
              <a:rPr b="0" lang="it-IT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, grazie ad un servizio efficiente e estremamente flessibile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Notevole </a:t>
            </a:r>
            <a:r>
              <a:rPr b="1" lang="it-IT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miglioramento dell’efficienza</a:t>
            </a:r>
            <a:r>
              <a:rPr b="0" lang="it-IT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 e della </a:t>
            </a:r>
            <a:r>
              <a:rPr b="1" lang="it-IT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tempistica</a:t>
            </a:r>
            <a:r>
              <a:rPr b="0" lang="it-IT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 di intervento, per rimanere più fedeli agli standard qualitativi in materia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Locazione</a:t>
            </a:r>
            <a:r>
              <a:rPr b="0" lang="it-IT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 e/o </a:t>
            </a:r>
            <a:r>
              <a:rPr b="1" lang="it-IT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vendita</a:t>
            </a:r>
            <a:r>
              <a:rPr b="0" lang="it-IT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   </a:t>
            </a:r>
            <a:r>
              <a:rPr b="0" lang="it-IT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Interessati all’utilizzo del software: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   </a:t>
            </a:r>
            <a:r>
              <a:rPr b="0" lang="it-IT" sz="2400" spc="-1" strike="noStrike" u="sng">
                <a:solidFill>
                  <a:srgbClr val="eaeaea"/>
                </a:solidFill>
                <a:uFillTx/>
                <a:latin typeface="Verdana"/>
                <a:ea typeface="Times New Roman"/>
              </a:rPr>
              <a:t>Servizio 118</a:t>
            </a:r>
            <a:r>
              <a:rPr b="0" lang="it-IT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 e </a:t>
            </a:r>
            <a:r>
              <a:rPr b="0" lang="it-IT" sz="2400" spc="-1" strike="noStrike" u="sng">
                <a:solidFill>
                  <a:srgbClr val="eaeaea"/>
                </a:solidFill>
                <a:uFillTx/>
                <a:latin typeface="Verdana"/>
                <a:ea typeface="Times New Roman"/>
              </a:rPr>
              <a:t>Comando Provinciale</a:t>
            </a:r>
            <a:r>
              <a:rPr b="0" lang="it-IT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 dei Vigili del Fuoco di Mungivacca.     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cc"/>
                </a:solidFill>
                <a:latin typeface="Arial"/>
              </a:rPr>
              <a:t>Tempi di realizzazione software:</a:t>
            </a:r>
            <a:br>
              <a:rPr sz="4400"/>
            </a:br>
            <a:r>
              <a:rPr b="0" lang="it-IT" sz="4400" spc="-1" strike="noStrike">
                <a:solidFill>
                  <a:srgbClr val="ffffcc"/>
                </a:solidFill>
                <a:latin typeface="Arial"/>
              </a:rPr>
              <a:t>WB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11280" y="2060640"/>
            <a:ext cx="82296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Raccolta dati per la progettazione del software</a:t>
            </a:r>
            <a:r>
              <a:rPr b="0" lang="it-IT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  (durata: 3 giorni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Verifica “in situ” dell’organizzazione del servizio  </a:t>
            </a:r>
            <a:r>
              <a:rPr b="0" lang="it-IT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(durata: 5 giorni)</a:t>
            </a:r>
            <a:r>
              <a:rPr b="0" i="1" lang="it-IT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Elaborazione del primo modello organizzativo del software</a:t>
            </a:r>
            <a:r>
              <a:rPr b="0" lang="it-IT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  (durata: 5 giorni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Verifica validità e correzioni eventuali</a:t>
            </a:r>
            <a:r>
              <a:rPr b="0" lang="it-IT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  (durata: 7 giorni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39640" y="2327400"/>
            <a:ext cx="8229600" cy="31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Elaborazione logica del modello nel linguaggio di programmazione scelto</a:t>
            </a:r>
            <a:r>
              <a:rPr b="0" lang="it-IT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  (durata: 30 giorni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Prima stesura del codice </a:t>
            </a:r>
            <a:r>
              <a:rPr b="0" lang="it-IT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 (durata: 40 giorni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Creazione dei database</a:t>
            </a:r>
            <a:r>
              <a:rPr b="0" lang="it-IT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  (durata: 40 giorni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Valutazioni, verifiche, test</a:t>
            </a:r>
            <a:r>
              <a:rPr b="0" lang="it-IT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  (durata: 30 giorni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cc"/>
                </a:solidFill>
                <a:latin typeface="Arial"/>
              </a:rPr>
              <a:t>Tempi di realizzazione software:</a:t>
            </a:r>
            <a:br>
              <a:rPr sz="4400"/>
            </a:br>
            <a:r>
              <a:rPr b="0" lang="it-IT" sz="4400" spc="-1" strike="noStrike">
                <a:solidFill>
                  <a:srgbClr val="ffffcc"/>
                </a:solidFill>
                <a:latin typeface="Arial"/>
              </a:rPr>
              <a:t>WB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24000" y="227628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Test coordinamento operativo</a:t>
            </a:r>
            <a:r>
              <a:rPr b="0" lang="it-IT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  (durata: 15 giorni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Correzioni e modifiche</a:t>
            </a:r>
            <a:r>
              <a:rPr b="0" lang="it-IT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  (durata:  20 giorni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Stesura finale del codice</a:t>
            </a:r>
            <a:r>
              <a:rPr b="0" lang="it-IT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  (durata: 20 giorni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Valutazioni e test conclusivi</a:t>
            </a:r>
            <a:r>
              <a:rPr b="0" lang="it-IT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  (durata: 20 giorni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cc"/>
                </a:solidFill>
                <a:latin typeface="Arial"/>
              </a:rPr>
              <a:t>Tempi di realizzazione software:</a:t>
            </a:r>
            <a:br>
              <a:rPr sz="4400"/>
            </a:br>
            <a:r>
              <a:rPr b="0" lang="it-IT" sz="4400" spc="-1" strike="noStrike">
                <a:solidFill>
                  <a:srgbClr val="ffffcc"/>
                </a:solidFill>
                <a:latin typeface="Arial"/>
              </a:rPr>
              <a:t>WB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cc"/>
                </a:solidFill>
                <a:latin typeface="Arial"/>
              </a:rPr>
              <a:t>Introduzion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Il buon funzionamento dei servizi di emergenza, intesi come soccorso sanitario e pubblica sicurezza, è un requisito indispensabile per ottenere una migliore qualità della vita.</a:t>
            </a:r>
            <a:r>
              <a:rPr b="0" lang="it-IT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cc"/>
                </a:solidFill>
                <a:latin typeface="Arial"/>
              </a:rPr>
              <a:t>Infrastruttura tecnologica    necessari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aeaea"/>
                </a:solidFill>
                <a:latin typeface="Verdana"/>
              </a:rPr>
              <a:t>Collegamenti GPS/GIS/GPR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aeaea"/>
                </a:solidFill>
                <a:latin typeface="Verdana"/>
              </a:rPr>
              <a:t>Centraline di rilevamento (igrometri, sensori per il calcolo flussi di traffico, pluviometri, altimetri)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aeaea"/>
                </a:solidFill>
                <a:latin typeface="Verdana"/>
              </a:rPr>
              <a:t>Interfacce per connettere i database, le centraline di rilevamento, il sistema GPS, le routines informatiche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cc"/>
                </a:solidFill>
                <a:latin typeface="Arial"/>
              </a:rPr>
              <a:t>Contatti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Per ulteriori informazioni sul funzionamento e sulle potenzialità del software rivolgersi a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1" lang="it-IT" sz="2800" spc="-1" strike="noStrike">
                <a:solidFill>
                  <a:srgbClr val="eaeaea"/>
                </a:solidFill>
                <a:latin typeface="Verdana"/>
              </a:rPr>
              <a:t>Nicola Tursi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1" lang="it-IT" sz="2800" spc="-1" strike="noStrike">
                <a:solidFill>
                  <a:srgbClr val="eaeaea"/>
                </a:solidFill>
                <a:latin typeface="Verdana"/>
              </a:rPr>
              <a:t>Tel</a:t>
            </a: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.: 339/1976849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1" lang="it-IT" sz="2800" spc="-1" strike="noStrike">
                <a:solidFill>
                  <a:srgbClr val="eaeaea"/>
                </a:solidFill>
                <a:latin typeface="Verdana"/>
              </a:rPr>
              <a:t>E-mail</a:t>
            </a: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: n.tursi@libero.i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80880" y="228564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   </a:t>
            </a:r>
            <a:r>
              <a:rPr b="0" lang="it-IT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E’ di basilare importanza implementare nuove metodologie organizzative ed operative che riescano a soddisfare l’istanza di sempre maggiore efficienza e rapidità di intervento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cc"/>
                </a:solidFill>
                <a:latin typeface="Arial"/>
              </a:rPr>
              <a:t>Introduzion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80880" y="137124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  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288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Sfruttando al meglio la tecnologia oggi a disposizione e le più recenti conquiste in ambito di monitoraggio e gestione intelligente dei flussi di traffico urbano ed extraurbano, tutto questo può diventare realtà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288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2880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 </a:t>
            </a:r>
            <a:r>
              <a:rPr b="1" lang="it-IT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COME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288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2880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 u="sng">
                <a:solidFill>
                  <a:srgbClr val="eaeaea"/>
                </a:solidFill>
                <a:uFillTx/>
                <a:latin typeface="Verdana"/>
              </a:rPr>
              <a:t>EMERGENCY CARE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cc"/>
                </a:solidFill>
                <a:latin typeface="Arial"/>
              </a:rPr>
              <a:t>Introduzion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0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  </a:t>
            </a:r>
            <a:r>
              <a:rPr b="0" lang="it-IT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Il </a:t>
            </a:r>
            <a:r>
              <a:rPr b="1" lang="it-IT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software</a:t>
            </a:r>
            <a:r>
              <a:rPr b="0" lang="it-IT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 è finalizzato alla </a:t>
            </a:r>
            <a:r>
              <a:rPr b="1" lang="it-IT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gestione</a:t>
            </a:r>
            <a:r>
              <a:rPr b="0" lang="it-IT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 “</a:t>
            </a:r>
            <a:r>
              <a:rPr b="1" i="1" lang="it-IT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intelligente</a:t>
            </a:r>
            <a:r>
              <a:rPr b="1" lang="it-IT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”</a:t>
            </a:r>
            <a:r>
              <a:rPr b="0" lang="it-IT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 dei mezzi di soccorso (quali ambulanze, mezzi dei VV.F, ecc.) e all’</a:t>
            </a:r>
            <a:r>
              <a:rPr b="1" lang="it-IT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ottimizzazione</a:t>
            </a:r>
            <a:r>
              <a:rPr b="0" lang="it-IT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 del loro uso, rivolgendosi ad una realtà che potrebbe essere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	</a:t>
            </a:r>
            <a:r>
              <a:rPr b="1" lang="it-IT" sz="3200" spc="-1" strike="noStrike" u="sng">
                <a:solidFill>
                  <a:srgbClr val="eaeaea"/>
                </a:solidFill>
                <a:uFillTx/>
                <a:latin typeface="Verdana"/>
                <a:ea typeface="Times New Roman"/>
              </a:rPr>
              <a:t>urbana</a:t>
            </a:r>
            <a:r>
              <a:rPr b="1" lang="it-IT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, </a:t>
            </a:r>
            <a:r>
              <a:rPr b="1" lang="it-IT" sz="3200" spc="-1" strike="noStrike" u="sng">
                <a:solidFill>
                  <a:srgbClr val="eaeaea"/>
                </a:solidFill>
                <a:uFillTx/>
                <a:latin typeface="Verdana"/>
                <a:ea typeface="Times New Roman"/>
              </a:rPr>
              <a:t>provinciale</a:t>
            </a:r>
            <a:r>
              <a:rPr b="0" lang="it-IT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 </a:t>
            </a:r>
            <a:r>
              <a:rPr b="1" lang="it-IT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o </a:t>
            </a:r>
            <a:r>
              <a:rPr b="1" lang="it-IT" sz="3200" spc="-1" strike="noStrike" u="sng">
                <a:solidFill>
                  <a:srgbClr val="eaeaea"/>
                </a:solidFill>
                <a:uFillTx/>
                <a:latin typeface="Verdana"/>
                <a:ea typeface="Times New Roman"/>
              </a:rPr>
              <a:t>regionale</a:t>
            </a:r>
            <a:r>
              <a:rPr b="0" lang="it-IT" sz="2800" spc="-1" strike="noStrike" u="sng">
                <a:solidFill>
                  <a:srgbClr val="eaeaea"/>
                </a:solidFill>
                <a:uFillTx/>
                <a:latin typeface="Verdana"/>
                <a:ea typeface="Times New Roman"/>
              </a:rPr>
              <a:t>.</a:t>
            </a:r>
            <a:r>
              <a:rPr b="0" lang="it-IT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cc"/>
                </a:solidFill>
                <a:latin typeface="Arial"/>
              </a:rPr>
              <a:t>Introduzion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cc"/>
                </a:solidFill>
                <a:latin typeface="Arial"/>
              </a:rPr>
              <a:t>Punti di forza del softwar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99240" indent="-39924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eaeaea"/>
                </a:solidFill>
                <a:uFillTx/>
                <a:latin typeface="Verdana"/>
              </a:rPr>
              <a:t>Monitoraggio e controllo costante del traffico</a:t>
            </a:r>
            <a:r>
              <a:rPr b="0" lang="it-IT" sz="2400" spc="-1" strike="noStrike">
                <a:solidFill>
                  <a:srgbClr val="eaeaea"/>
                </a:solidFill>
                <a:latin typeface="Verdana"/>
              </a:rPr>
              <a:t> sulle direttrici principali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4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si</a:t>
            </a:r>
            <a:r>
              <a:rPr b="0" lang="it-IT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it-IT" sz="2800" spc="-1" strike="noStrike">
                <a:solidFill>
                  <a:srgbClr val="eaeaea"/>
                </a:solidFill>
                <a:latin typeface="Verdana"/>
              </a:rPr>
              <a:t>riduce</a:t>
            </a: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 il tempo intercorrent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4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tra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4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eaeaea"/>
                </a:solidFill>
                <a:uFillTx/>
                <a:latin typeface="Verdana"/>
              </a:rPr>
              <a:t>la chiamata di emergenza</a:t>
            </a: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4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e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4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eaeaea"/>
                </a:solidFill>
                <a:uFillTx/>
                <a:latin typeface="Verdana"/>
              </a:rPr>
              <a:t>l’arrivo dell’equipe di soccors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4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eaeaea"/>
                </a:solidFill>
                <a:uFillTx/>
                <a:latin typeface="Verdana"/>
              </a:rPr>
              <a:t>“</a:t>
            </a:r>
            <a:r>
              <a:rPr b="1" i="1" lang="it-IT" sz="2800" spc="-1" strike="noStrike" u="sng">
                <a:solidFill>
                  <a:srgbClr val="eaeaea"/>
                </a:solidFill>
                <a:uFillTx/>
                <a:latin typeface="Verdana"/>
              </a:rPr>
              <a:t>on site</a:t>
            </a:r>
            <a:r>
              <a:rPr b="1" lang="it-IT" sz="2800" spc="-1" strike="noStrike" u="sng">
                <a:solidFill>
                  <a:srgbClr val="eaeaea"/>
                </a:solidFill>
                <a:uFillTx/>
                <a:latin typeface="Verdana"/>
              </a:rPr>
              <a:t>”</a:t>
            </a: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aeaea"/>
                </a:solidFill>
                <a:latin typeface="Verdana"/>
              </a:rPr>
              <a:t>anche in caso di località sconosciute all’autista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9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eaeaea"/>
                </a:solidFill>
                <a:uFillTx/>
                <a:latin typeface="Verdana"/>
                <a:ea typeface="Times New Roman"/>
              </a:rPr>
              <a:t>Analisi delle condizioni ambientali</a:t>
            </a:r>
            <a:r>
              <a:rPr b="0" lang="it-IT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   </a:t>
            </a:r>
            <a:r>
              <a:rPr b="0" lang="it-IT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caratterizzanti l’intervento (atmosferiche, stradali, di traffico e variazioni di quota), attraverso apposite centraline di rilevamento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eaeaea"/>
                </a:solidFill>
                <a:uFillTx/>
                <a:latin typeface="Verdana"/>
                <a:ea typeface="Times New Roman"/>
              </a:rPr>
              <a:t>Valutazione della particolare patologia</a:t>
            </a:r>
            <a:r>
              <a:rPr b="0" lang="it-IT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   </a:t>
            </a:r>
            <a:r>
              <a:rPr b="0" lang="it-IT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o emergenza da affrontare e del range di tempo per portare a termine l’intervento in totale sicurezza per chi ne fa richiesta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cc"/>
                </a:solidFill>
                <a:latin typeface="Arial"/>
              </a:rPr>
              <a:t>Punti di forza del softwar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533520" y="1828440"/>
            <a:ext cx="8229600" cy="53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eaeaea"/>
                </a:solidFill>
                <a:uFillTx/>
                <a:latin typeface="Verdana"/>
                <a:ea typeface="Times New Roman"/>
              </a:rPr>
              <a:t>Elaborazione e comparazione dei dati</a:t>
            </a:r>
            <a:r>
              <a:rPr b="0" lang="it-IT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   </a:t>
            </a:r>
            <a:r>
              <a:rPr b="0" lang="it-IT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provenienti dalle centraline di rilevamento poste in determinati punti del contesto geografico da monitorare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eaeaea"/>
                </a:solidFill>
                <a:uFillTx/>
                <a:latin typeface="Verdana"/>
                <a:ea typeface="Times New Roman"/>
              </a:rPr>
              <a:t>Valutazione dei tempi ideali di intervento</a:t>
            </a:r>
            <a:r>
              <a:rPr b="0" lang="it-IT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, considerando le specifiche condizioni ambientali di operazione e le </a:t>
            </a:r>
            <a:r>
              <a:rPr b="1" lang="it-IT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distanze euclidee </a:t>
            </a:r>
            <a:r>
              <a:rPr b="0" lang="it-IT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tra città, comuni, e postazioni di primo soccorso dentro e fuori i centri abitati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cc"/>
                </a:solidFill>
                <a:latin typeface="Arial"/>
              </a:rPr>
              <a:t>Punti di forza del softwar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533520" y="1828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eaeaea"/>
                </a:solidFill>
                <a:uFillTx/>
                <a:latin typeface="Verdana"/>
                <a:ea typeface="Times New Roman"/>
              </a:rPr>
              <a:t>Coefficienti correttivi dei tempi ideali</a:t>
            </a:r>
            <a:r>
              <a:rPr b="0" lang="it-IT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,</a:t>
            </a:r>
            <a:r>
              <a:rPr b="1" lang="it-IT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   </a:t>
            </a:r>
            <a:r>
              <a:rPr b="0" lang="it-IT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rappresentanti le condizioni ambientali rilevate, per una</a:t>
            </a:r>
            <a:r>
              <a:rPr b="1" lang="it-IT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 </a:t>
            </a:r>
            <a:r>
              <a:rPr b="1" lang="it-IT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definizione realistica </a:t>
            </a:r>
            <a:r>
              <a:rPr b="0" lang="it-IT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della tempistica</a:t>
            </a:r>
            <a:r>
              <a:rPr b="1" lang="it-IT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delle operazioni da gestire e ottimizzare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aeaea"/>
                </a:solidFill>
                <a:uFillTx/>
                <a:latin typeface="Verdana"/>
                <a:ea typeface="Times New Roman"/>
              </a:rPr>
              <a:t>Capacità di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Verdana"/>
                <a:ea typeface="Times New Roman"/>
              </a:rPr>
              <a:t> </a:t>
            </a:r>
            <a:r>
              <a:rPr b="1" lang="en-US" sz="2400" spc="-1" strike="noStrike" u="sng">
                <a:solidFill>
                  <a:srgbClr val="eaeaea"/>
                </a:solidFill>
                <a:uFillTx/>
                <a:latin typeface="Verdana"/>
                <a:ea typeface="Times New Roman"/>
              </a:rPr>
              <a:t>autoapprendimento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per memorizzare, valutare ed individuare in </a:t>
            </a:r>
            <a:r>
              <a:rPr b="1" lang="en-US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modo dinamico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 il migliore percorso da effettuare</a:t>
            </a:r>
            <a:r>
              <a:rPr b="1" lang="en-US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256212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cc"/>
                </a:solidFill>
                <a:latin typeface="Arial"/>
              </a:rPr>
              <a:t>Punti di forza del softwar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.</cp:lastModifiedBy>
  <dcterms:modified xsi:type="dcterms:W3CDTF">2003-03-10T09:22:55Z</dcterms:modified>
  <cp:revision>42</cp:revision>
  <dc:subject/>
  <dc:title>PowerPoint Presentation</dc:title>
</cp:coreProperties>
</file>