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F08C-263B-440E-85AE-9EC712E5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6AD-4D95-4D33-AB6F-84F44F3F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204E-FCD5-4422-BE13-C9C967DA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C9A-D2B8-40B2-869B-51F450CC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C036-AA5E-4E10-8B32-60E40FCE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108F-DF1A-4043-9E51-E17385D7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60C7-A4FC-433F-9345-2917E069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0735-B6D4-49CB-B823-22BB8356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6D63-BA92-4C99-BBC4-C1A2B886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0340-8CDD-4288-966D-AB759FCF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2C18-484E-4E02-8B7D-B099D355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222-7222-4711-9728-5F128D18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FAF5-B313-4729-A4C0-C87B3586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ED5B-B596-44D7-9371-46437801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566A-3521-42D1-A874-3E182269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3A9A-C986-465B-A10D-AF008480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6504-D97E-41ED-A24F-C4452A08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4CCF-1629-4E54-8C8C-0BDCA55E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76E-6578-4C08-8D2D-579392EA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504-9A91-4B6A-AAE1-BDBB727D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88C-70E0-460B-9039-B7800A99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79F-1627-4A37-8E41-90A2B965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78A2-BA83-4A33-8C50-B04810D6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044-3A65-445B-A0C5-37CB22B0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0842-9E21-49D8-B530-3C75A2832F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EB2B-1B35-46A9-B304-4CA15745A9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nfo.hello@virgilio.it" TargetMode="External"/><Relationship Id="rId2" Type="http://schemas.openxmlformats.org/officeDocument/2006/relationships/hyperlink" Target="mailto:info.hello@virgilio.it" TargetMode="External"/><Relationship Id="rId3" Type="http://schemas.openxmlformats.org/officeDocument/2006/relationships/hyperlink" Target="mailto:info.hello@virgilio.it" TargetMode="External"/><Relationship Id="rId4" Type="http://schemas.openxmlformats.org/officeDocument/2006/relationships/hyperlink" Target="mailto:info.hello@virgilio.it" TargetMode="External"/><Relationship Id="rId5" Type="http://schemas.openxmlformats.org/officeDocument/2006/relationships/hyperlink" Target="mailto:info.hello@virgilio.it" TargetMode="External"/><Relationship Id="rId6" Type="http://schemas.openxmlformats.org/officeDocument/2006/relationships/hyperlink" Target="mailto:info.hello@virgilio.it" TargetMode="External"/><Relationship Id="rId7" Type="http://schemas.openxmlformats.org/officeDocument/2006/relationships/hyperlink" Target="mailto:info.hello@virgilio.it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000160"/>
            <a:ext cx="87854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Piccola Distribuzione Organizzata: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 Piccoli Esercenti, Grandi nel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Servizio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7120" y="4876920"/>
            <a:ext cx="122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Proponent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00" y="5092560"/>
            <a:ext cx="836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Umberto Alto, Simona Ardito, Doriana de Luca, Laura Fabbiano, Fabio Giuliani, Giovanni Lamacchia, Rosanna Pinto, Maurizio Trid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7164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testata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3800520" cy="911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655560"/>
            <a:ext cx="3733920" cy="48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L’IDEA   (1/2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830240"/>
            <a:ext cx="835344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marL="374760" indent="-374760" algn="just">
              <a:lnSpc>
                <a:spcPct val="170000"/>
              </a:lnSpc>
              <a:buClr>
                <a:srgbClr val="ffff00"/>
              </a:buClr>
              <a:buSzPct val="85000"/>
              <a:buFont typeface="Wingdings 3" charset="2"/>
              <a:buChar char="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Piccola Distribuzione Organizzata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è un’iniziativa di un gruppo di giovani con esperienza in ambito di tecnologie innov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 algn="just">
              <a:lnSpc>
                <a:spcPct val="170000"/>
              </a:lnSpc>
              <a:buClr>
                <a:srgbClr val="ffffff"/>
              </a:buClr>
              <a:buSzPct val="85000"/>
              <a:buFont typeface="Wingdings 3" charset="2"/>
              <a:buChar char="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Punta a fornire servizi ad elevato valore aggiunto alla categoria dei piccoli esercenti, mediante l’apertura e l’uso ottimale di canali di vendita alternativ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 algn="just">
              <a:lnSpc>
                <a:spcPct val="170000"/>
              </a:lnSpc>
              <a:buClr>
                <a:srgbClr val="ffffff"/>
              </a:buClr>
              <a:buSzPct val="85000"/>
              <a:buFont typeface="Wingdings 3" charset="2"/>
              <a:buChar char="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i fonda sull’ottimizzazione dell’utilizzo di consolidate tecnologie informatiche e di comunic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testata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3800520" cy="911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2680" y="1523880"/>
            <a:ext cx="83041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marL="374760" indent="-374760" algn="just">
              <a:lnSpc>
                <a:spcPct val="170000"/>
              </a:lnSpc>
              <a:buClr>
                <a:srgbClr val="ffffff"/>
              </a:buClr>
              <a:buSzPct val="85000"/>
              <a:buFont typeface="Wingdings 3" charset="2"/>
              <a:buChar char="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i="1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L’idea si propone di creare una forma di </a:t>
            </a:r>
            <a:r>
              <a:rPr b="1" i="1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Supermercati Virtuali di Quartiere</a:t>
            </a:r>
            <a:r>
              <a:rPr b="1" i="1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basandosi su una rete di piccoli esercizi commerci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 algn="just">
              <a:lnSpc>
                <a:spcPct val="170000"/>
              </a:lnSpc>
              <a:buClr>
                <a:srgbClr val="ffffff"/>
              </a:buClr>
              <a:buSzPct val="85000"/>
              <a:buFont typeface="Wingdings 3" charset="2"/>
              <a:buChar char="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L’utente finale, l’abitante del quartiere, accedendo ad un Portale Internet o ad un Contact Centre, potrà effettuare i propri acquisti scegliend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285840" algn="just">
              <a:lnSpc>
                <a:spcPct val="170000"/>
              </a:lnSpc>
              <a:buClr>
                <a:srgbClr val="ffffff"/>
              </a:buClr>
              <a:buSzPct val="85000"/>
              <a:buFont typeface="Wingdings 3" charset="2"/>
              <a:buChar char="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la categoria merceologica di interes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285840" algn="just">
              <a:lnSpc>
                <a:spcPct val="170000"/>
              </a:lnSpc>
              <a:buClr>
                <a:srgbClr val="ffffff"/>
              </a:buClr>
              <a:buSzPct val="85000"/>
              <a:buFont typeface="Wingdings 3" charset="2"/>
              <a:buChar char="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la tipologia di prodot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285840" algn="just">
              <a:lnSpc>
                <a:spcPct val="170000"/>
              </a:lnSpc>
              <a:buClr>
                <a:srgbClr val="ffffff"/>
              </a:buClr>
              <a:buSzPct val="85000"/>
              <a:buFont typeface="Wingdings 3" charset="2"/>
              <a:buChar char="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il proprio esercente di fidu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 algn="just">
              <a:lnSpc>
                <a:spcPct val="170000"/>
              </a:lnSpc>
              <a:buClr>
                <a:srgbClr val="ffffff"/>
              </a:buClr>
              <a:buSzPct val="85000"/>
              <a:buFont typeface="Wingdings 3" charset="2"/>
              <a:buChar char="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La merce ordinata verrà recapitata a domicilio anche al di fuori dei normali orari di apert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testata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3800520" cy="9111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579240"/>
            <a:ext cx="373392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L’IDEA   (2/2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333396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I VANTAGGI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2680" y="1371600"/>
            <a:ext cx="8304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marL="374760" indent="-374760" algn="just">
              <a:lnSpc>
                <a:spcPct val="210000"/>
              </a:lnSpc>
              <a:buClr>
                <a:srgbClr val="ffffff"/>
              </a:buClr>
              <a:buSzPct val="85000"/>
              <a:buFont typeface="Wingdings 3" charset="2"/>
              <a:buChar char="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L’idea consente ai piccoli esercenti di utilizzare un canale di vendita innovativo, generalmente appannaggio della Grande Distribuzione Organizza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 algn="just">
              <a:lnSpc>
                <a:spcPct val="210000"/>
              </a:lnSpc>
              <a:buClr>
                <a:srgbClr val="ffffff"/>
              </a:buClr>
              <a:buSzPct val="85000"/>
              <a:buFont typeface="Wingdings 3" charset="2"/>
              <a:buChar char="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mette agli utenti finali di unire tra loro i vantaggi qual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285840" algn="just">
              <a:lnSpc>
                <a:spcPct val="210000"/>
              </a:lnSpc>
              <a:buClr>
                <a:srgbClr val="ffffff"/>
              </a:buClr>
              <a:buSzPct val="85000"/>
              <a:buFont typeface="Wingdings 3" charset="2"/>
              <a:buChar char="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la fruizione di un canale di vendita on l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285840" algn="just">
              <a:lnSpc>
                <a:spcPct val="210000"/>
              </a:lnSpc>
              <a:buClr>
                <a:srgbClr val="ffffff"/>
              </a:buClr>
              <a:buSzPct val="85000"/>
              <a:buFont typeface="Wingdings 3" charset="2"/>
              <a:buChar char="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l’accesso ad un assortimento di prodotti tipico della Grande Distribuzione Organizz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285840" algn="just">
              <a:lnSpc>
                <a:spcPct val="210000"/>
              </a:lnSpc>
              <a:buClr>
                <a:srgbClr val="ffffff"/>
              </a:buClr>
              <a:buSzPct val="85000"/>
              <a:buFont typeface="Wingdings 3" charset="2"/>
              <a:buChar char="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la possibilità di mantenere l’abituale legame con i piccoli esercent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testata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3800520" cy="911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6280" y="533160"/>
            <a:ext cx="37908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LE TECNOLOGIE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2680" y="1371600"/>
            <a:ext cx="8304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marL="374760" indent="-374760" algn="just">
              <a:lnSpc>
                <a:spcPct val="180000"/>
              </a:lnSpc>
              <a:buClr>
                <a:srgbClr val="ffffff"/>
              </a:buClr>
              <a:buSzPct val="85000"/>
              <a:buFont typeface="Wingdings 3" charset="2"/>
              <a:buChar char="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Portale Internet con accesso sicuro (protocollo SSL), gestione di log-in e password personalizzate, gestione della possibilità di pagamenti on line</a:t>
            </a:r>
            <a:r>
              <a:rPr b="1" i="1" lang="en-GB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 algn="just">
              <a:lnSpc>
                <a:spcPct val="180000"/>
              </a:lnSpc>
              <a:buClr>
                <a:srgbClr val="ffffff"/>
              </a:buClr>
              <a:buSzPct val="85000"/>
              <a:buFont typeface="Wingdings 3" charset="2"/>
              <a:buChar char="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Contact Centre</a:t>
            </a:r>
            <a:r>
              <a:rPr b="1" i="1" lang="en-GB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e p</a:t>
            </a:r>
            <a:r>
              <a:rPr b="1" i="1" lang="it-IT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iattaforma di CRM (Customer Relationship Management) per la gestione delle richieste</a:t>
            </a:r>
            <a:r>
              <a:rPr b="1" i="1" lang="en-GB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 algn="just">
              <a:lnSpc>
                <a:spcPct val="180000"/>
              </a:lnSpc>
              <a:buClr>
                <a:srgbClr val="ffffff"/>
              </a:buClr>
              <a:buSzPct val="85000"/>
              <a:buFont typeface="Wingdings 3" charset="2"/>
              <a:buChar char="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Tecnologia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Wireless (WAP, GPRS, UMTS)</a:t>
            </a:r>
            <a:r>
              <a:rPr b="1" i="1" lang="en-GB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per la gestione della “Logistica di quartiere” (consegne a domicili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 algn="just">
              <a:lnSpc>
                <a:spcPct val="180000"/>
              </a:lnSpc>
              <a:buClr>
                <a:srgbClr val="ffffff"/>
              </a:buClr>
              <a:buSzPct val="85000"/>
              <a:buFont typeface="Wingdings 3" charset="2"/>
              <a:buChar char="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testata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3800520" cy="911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081080" y="2430360"/>
            <a:ext cx="74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onsegna 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omicil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075040" y="3886200"/>
            <a:ext cx="5316480" cy="2819520"/>
            <a:chOff x="2075040" y="3886200"/>
            <a:chExt cx="5316480" cy="2819520"/>
          </a:xfrm>
        </p:grpSpPr>
        <p:sp>
          <p:nvSpPr>
            <p:cNvPr id="117" name=""/>
            <p:cNvSpPr/>
            <p:nvPr/>
          </p:nvSpPr>
          <p:spPr>
            <a:xfrm>
              <a:off x="3505320" y="3886200"/>
              <a:ext cx="2189160" cy="109548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570200">
              <a:off x="5870520" y="4679640"/>
              <a:ext cx="309600" cy="127080"/>
            </a:xfrm>
            <a:custGeom>
              <a:avLst/>
              <a:gdLst>
                <a:gd name="textAreaLeft" fmla="*/ 48240 w 309600"/>
                <a:gd name="textAreaRight" fmla="*/ 271080 w 309600"/>
                <a:gd name="textAreaTop" fmla="*/ 31680 h 127080"/>
                <a:gd name="textAreaBottom" fmla="*/ 95400 h 1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237360" y="4924440"/>
              <a:ext cx="56196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5181480" y="5673600"/>
              <a:ext cx="56052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8771400">
              <a:off x="5949720" y="5845320"/>
              <a:ext cx="304560" cy="123840"/>
            </a:xfrm>
            <a:custGeom>
              <a:avLst/>
              <a:gdLst>
                <a:gd name="textAreaLeft" fmla="*/ 47520 w 304560"/>
                <a:gd name="textAreaRight" fmla="*/ 266760 w 304560"/>
                <a:gd name="textAreaTop" fmla="*/ 30960 h 123840"/>
                <a:gd name="textAreaBottom" fmla="*/ 9288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4394160" y="5902200"/>
              <a:ext cx="631800" cy="5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5"/>
            <a:stretch/>
          </p:blipFill>
          <p:spPr>
            <a:xfrm>
              <a:off x="4816440" y="4232160"/>
              <a:ext cx="67140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6"/>
            <a:stretch/>
          </p:blipFill>
          <p:spPr>
            <a:xfrm>
              <a:off x="3587760" y="4175280"/>
              <a:ext cx="846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7"/>
            <a:stretch/>
          </p:blipFill>
          <p:spPr>
            <a:xfrm>
              <a:off x="2608200" y="4807080"/>
              <a:ext cx="48420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 rot="20187600">
              <a:off x="3092400" y="4652640"/>
              <a:ext cx="304920" cy="122040"/>
            </a:xfrm>
            <a:custGeom>
              <a:avLst/>
              <a:gdLst>
                <a:gd name="textAreaLeft" fmla="*/ 47520 w 304920"/>
                <a:gd name="textAreaRight" fmla="*/ 267120 w 304920"/>
                <a:gd name="textAreaTop" fmla="*/ 30240 h 122040"/>
                <a:gd name="textAreaBottom" fmla="*/ 914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4344200">
              <a:off x="2797200" y="5689440"/>
              <a:ext cx="304560" cy="120600"/>
            </a:xfrm>
            <a:custGeom>
              <a:avLst/>
              <a:gdLst>
                <a:gd name="textAreaLeft" fmla="*/ 47520 w 304560"/>
                <a:gd name="textAreaRight" fmla="*/ 266760 w 304560"/>
                <a:gd name="textAreaTop" fmla="*/ 30240 h 120600"/>
                <a:gd name="textAreaBottom" fmla="*/ 90720 h 12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8"/>
            <a:stretch/>
          </p:blipFill>
          <p:spPr>
            <a:xfrm>
              <a:off x="3133800" y="5730840"/>
              <a:ext cx="6271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 rot="11109000">
              <a:off x="3916080" y="6125760"/>
              <a:ext cx="304560" cy="122400"/>
            </a:xfrm>
            <a:custGeom>
              <a:avLst/>
              <a:gdLst>
                <a:gd name="textAreaLeft" fmla="*/ 47520 w 304560"/>
                <a:gd name="textAreaRight" fmla="*/ 266760 w 304560"/>
                <a:gd name="textAreaTop" fmla="*/ 30600 h 122400"/>
                <a:gd name="textAreaBottom" fmla="*/ 9180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62320" y="3962520"/>
              <a:ext cx="8161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10199"/>
                  </a:solidFill>
                  <a:latin typeface="Times New Roman"/>
                </a:rPr>
                <a:t>Utente</a:t>
              </a: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010199"/>
                  </a:solidFill>
                  <a:latin typeface="Times New Roman"/>
                </a:rPr>
                <a:t>final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96040" y="4540320"/>
              <a:ext cx="10191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ffffff"/>
                  </a:solidFill>
                  <a:latin typeface="Times New Roman"/>
                </a:rPr>
                <a:t>Portale Internet/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ffffff"/>
                  </a:solidFill>
                  <a:latin typeface="Times New Roman"/>
                </a:rPr>
                <a:t>Contact Centr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73640" y="6477120"/>
              <a:ext cx="80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Operator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4640" y="6039000"/>
              <a:ext cx="4446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Spes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570200">
              <a:off x="5791320" y="4571640"/>
              <a:ext cx="309600" cy="127080"/>
            </a:xfrm>
            <a:custGeom>
              <a:avLst/>
              <a:gdLst>
                <a:gd name="textAreaLeft" fmla="*/ 48240 w 309600"/>
                <a:gd name="textAreaRight" fmla="*/ 271080 w 309600"/>
                <a:gd name="textAreaTop" fmla="*/ 31680 h 127080"/>
                <a:gd name="textAreaBottom" fmla="*/ 95400 h 1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8771400">
              <a:off x="5866560" y="5638680"/>
              <a:ext cx="304920" cy="123840"/>
            </a:xfrm>
            <a:custGeom>
              <a:avLst/>
              <a:gdLst>
                <a:gd name="textAreaLeft" fmla="*/ 47520 w 304920"/>
                <a:gd name="textAreaRight" fmla="*/ 267120 w 304920"/>
                <a:gd name="textAreaTop" fmla="*/ 30960 h 123840"/>
                <a:gd name="textAreaBottom" fmla="*/ 9288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187600">
              <a:off x="3200040" y="4571640"/>
              <a:ext cx="304920" cy="122400"/>
            </a:xfrm>
            <a:custGeom>
              <a:avLst/>
              <a:gdLst>
                <a:gd name="textAreaLeft" fmla="*/ 47520 w 304920"/>
                <a:gd name="textAreaRight" fmla="*/ 267120 w 304920"/>
                <a:gd name="textAreaTop" fmla="*/ 30600 h 122400"/>
                <a:gd name="textAreaBottom" fmla="*/ 9180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4344200">
              <a:off x="2802960" y="5578200"/>
              <a:ext cx="304920" cy="120600"/>
            </a:xfrm>
            <a:custGeom>
              <a:avLst/>
              <a:gdLst>
                <a:gd name="textAreaLeft" fmla="*/ 47520 w 304920"/>
                <a:gd name="textAreaRight" fmla="*/ 267120 w 304920"/>
                <a:gd name="textAreaTop" fmla="*/ 30240 h 120600"/>
                <a:gd name="textAreaBottom" fmla="*/ 90720 h 12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1109000">
              <a:off x="3846240" y="6120720"/>
              <a:ext cx="304560" cy="122040"/>
            </a:xfrm>
            <a:custGeom>
              <a:avLst/>
              <a:gdLst>
                <a:gd name="textAreaLeft" fmla="*/ 47520 w 304560"/>
                <a:gd name="textAreaRight" fmla="*/ 266760 w 304560"/>
                <a:gd name="textAreaTop" fmla="*/ 30240 h 122040"/>
                <a:gd name="textAreaBottom" fmla="*/ 914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75040" y="4433760"/>
              <a:ext cx="74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Consegna 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domicil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19920" y="5867280"/>
              <a:ext cx="1371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ffffff"/>
                  </a:solidFill>
                  <a:latin typeface="Times New Roman"/>
                </a:rPr>
                <a:t>Connessione Wireles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6280" y="533160"/>
            <a:ext cx="249552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CONTATTI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6360" y="1752480"/>
            <a:ext cx="83041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marL="374760" indent="-374760">
              <a:lnSpc>
                <a:spcPct val="180000"/>
              </a:lnSpc>
              <a:buClr>
                <a:srgbClr val="ffffff"/>
              </a:buClr>
              <a:buSzPct val="85000"/>
              <a:buFont typeface="Wingdings 3" charset="2"/>
              <a:buChar char="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-mail: </a:t>
            </a:r>
            <a:r>
              <a:rPr b="0" lang="it-IT" sz="24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info</a:t>
            </a:r>
            <a:r>
              <a:rPr b="0" lang="it-IT" sz="24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it-IT" sz="24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hello</a:t>
            </a:r>
            <a:r>
              <a:rPr b="0" lang="it-IT" sz="24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@</a:t>
            </a:r>
            <a:r>
              <a:rPr b="0" lang="it-IT" sz="24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virgilio</a:t>
            </a:r>
            <a:r>
              <a:rPr b="0" lang="it-IT" sz="24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it-IT" sz="24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180000"/>
              </a:lnSpc>
              <a:buClr>
                <a:srgbClr val="ffffff"/>
              </a:buClr>
              <a:buSzPct val="85000"/>
              <a:buFont typeface="Wingdings 3" charset="2"/>
              <a:buChar char="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Umberto Alto: 347 621790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180000"/>
              </a:lnSpc>
              <a:buClr>
                <a:srgbClr val="ffffff"/>
              </a:buClr>
              <a:buSzPct val="85000"/>
              <a:buFont typeface="Wingdings 3" charset="2"/>
              <a:buChar char="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Fabio Giuliani: 349 75995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180000"/>
              </a:lnSpc>
              <a:buClr>
                <a:srgbClr val="ffffff"/>
              </a:buClr>
              <a:buSzPct val="85000"/>
              <a:buFont typeface="Wingdings 3" charset="2"/>
              <a:buChar char="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 algn="just">
              <a:lnSpc>
                <a:spcPct val="180000"/>
              </a:lnSpc>
              <a:buClr>
                <a:srgbClr val="ffffff"/>
              </a:buClr>
              <a:buSzPct val="85000"/>
              <a:buFont typeface="Wingdings 3" charset="2"/>
              <a:buChar char="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testata" descr=""/>
          <p:cNvPicPr/>
          <p:nvPr/>
        </p:nvPicPr>
        <p:blipFill>
          <a:blip r:embed="rId8"/>
          <a:stretch/>
        </p:blipFill>
        <p:spPr>
          <a:xfrm>
            <a:off x="5181480" y="304920"/>
            <a:ext cx="3800520" cy="911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5256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4419720"/>
            <a:ext cx="8304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marL="374760" indent="-374760" algn="ctr">
              <a:lnSpc>
                <a:spcPct val="1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ARRIVEDERCI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6:24:47Z</dcterms:created>
  <dc:creator>Giovanni Lamacchia</dc:creator>
  <dc:description/>
  <dc:language>en-US</dc:language>
  <cp:lastModifiedBy>GiulianiF</cp:lastModifiedBy>
  <dcterms:modified xsi:type="dcterms:W3CDTF">2003-03-10T09:32:11Z</dcterms:modified>
  <cp:revision>20</cp:revision>
  <dc:subject/>
  <dc:title>Piccola Distribuzione Organizzata:  Piccoli Esercenti, Grande Servizio</dc:title>
</cp:coreProperties>
</file>