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99A-3BAF-4667-B4AC-8BF4190E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462-E49A-445A-BF68-62603F8C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2F6-B5C4-4908-9A4F-A0EF5E9B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0C3-2350-4520-B687-D1BEA463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433-9A81-44EA-A8E6-1BDD9F3A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571-C486-4DAD-93F2-65392F18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F95-5F12-4BFD-85E7-14D69D77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AAF-14E6-427E-8C32-9A05405D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AC7-49E2-441B-A173-92105DD4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7CC-8A03-49B3-9FB0-06951742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BD9-EC7A-4811-A33D-143F5904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B86-6377-4CA1-A4A1-FE141AE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F54D-54A9-4FD4-8FD0-6FEC543BA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ilmcommfondo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040" y="2830680"/>
            <a:ext cx="1768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3640" y="2754360"/>
            <a:ext cx="169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7432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Verdana"/>
              </a:rPr>
              <a:t>“</a:t>
            </a:r>
            <a:r>
              <a:rPr b="1" i="1" lang="en-US" sz="4400" spc="-1" strike="noStrike">
                <a:solidFill>
                  <a:srgbClr val="dddddd"/>
                </a:solidFill>
                <a:latin typeface="Verdana"/>
              </a:rPr>
              <a:t>idea</a:t>
            </a:r>
            <a:r>
              <a:rPr b="0" i="1" lang="en-US" sz="4400" spc="-1" strike="noStrike">
                <a:solidFill>
                  <a:srgbClr val="dddddd"/>
                </a:solidFill>
                <a:latin typeface="Verdana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ilmcommfondo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265104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i="1" lang="en-US" sz="4400" spc="-1" strike="noStrike">
                <a:solidFill>
                  <a:srgbClr val="ff0000"/>
                </a:solidFill>
                <a:latin typeface="Verdana"/>
              </a:rPr>
              <a:t>ide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80880" y="602928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086600" y="6143760"/>
            <a:ext cx="1600200" cy="63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6248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Team:Eureka2002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4419720"/>
            <a:ext cx="89917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obiettivo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primario della nostra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FilmIdea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Imprenditoriale è promuovere l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Regione Puglia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e le sue 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risorse  umane  e  tecniche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presso  le 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Produzioni Cinematografiche, Televisive e Pubblicitarie</a:t>
            </a:r>
            <a:r>
              <a:rPr b="1" lang="it-IT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90720"/>
            <a:ext cx="891540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 sviluppo dell’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industria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audiovisiva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e’ uno straordinario catalizzatore  di ricchezza  e di   attività    economiche   e    culturali,  infatti   attraverso   la  valorizzazione    delle    caratteristiche   geografiche  ed  artistiche   e  dell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ofessionalità  locali  si   innescano delle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ricadute positive  sul  territorio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 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termini   diretti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di   servizi   e   personale  impiegato  ed  in 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 term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indiretti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sotto  forma  di  flussi  turistici,  in  un  contesto  complessivo 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marketing territoriale e di promozione  dell’immagine  del  territorio</a:t>
            </a:r>
            <a:r>
              <a:rPr b="1" lang="it-IT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526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64832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81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60228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086600" y="6143760"/>
            <a:ext cx="1600200" cy="63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82040" y="6172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Verdana"/>
              </a:rPr>
              <a:t>Team:Eureka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6640" y="3366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remessa e genesi dell’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99072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progetto mira proprio a trasformare il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territorio in meta privilegiata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ei produttori cinematografici, televisivi e pubblicitari, italiani ed esteri, per la realizzazione di materiali audiovisivi, e più precisamente: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Cortometraggi e lungometraggi,Filmati Pubblicitari, VideoClips, Documentari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.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895480"/>
            <a:ext cx="8381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truttura intende dare risposte concrete alle richieste delle case di produzione italiane e  straniere  che  intendono 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girare  sul  territorio pugliese,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garantendo  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assistenza   e  supporto  tecnico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mediante  la promozione delle risorse umane e servizi tecnici iscritti alla banca dati di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FilmIdea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nonché lo snellimento nelle procedure di rilascio permessi e autorizzazioni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60228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086600" y="6143760"/>
            <a:ext cx="1600200" cy="63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8280" y="6172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Verdana"/>
              </a:rPr>
              <a:t>Team:Eureka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55080" y="38088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Obiettivi da raggiung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19320"/>
            <a:ext cx="952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762120"/>
            <a:ext cx="8458200" cy="54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to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web Portale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Database relazionale  dedicato (www.filmIdea.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pecifici Strumenti di Comunicazione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(Production Guide, Movie Ma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mailing list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s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rete di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referenti territoriali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designati da Comuni, Province e Agenzie per il Turismo come interfac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Strumenti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i studio e di lavoro (ricerca socio-economica in collaborazione con l’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Università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di Bari e Lecce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in ordine agli effetti prodotti dai set sul territorio pugli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revista la partecipazione di  FilmIdea a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manifestazioni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pecializzate in Italia e all’es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allo studio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un’attività  di ricerca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settore sul mercato americano televisivo satellitare monotematico e cinematografico in collaborazione con Istituto per il Commercio Estero 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Gli stru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60228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086600" y="6143760"/>
            <a:ext cx="1600200" cy="637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82040" y="6172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Verdana"/>
              </a:rPr>
              <a:t>Team:Eureka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Le principali tipologie di cli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914400"/>
            <a:ext cx="876312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mercato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a cui ci rivolgiamo è quello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dell'industria dell'intrattenimento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Produzione e Distribuzione cinematografica, Marketing Territoriale, produzione di Spot pubblicitari, Import-Export di programmi televisivi, Progettazione Eventi e Multimedialità costituiscono un settore strategico, sia in termini culturali che economici, di opportunità di lavoro e di formazione professionale.  I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clienti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0880" y="60228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086600" y="6143760"/>
            <a:ext cx="1600200" cy="637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58280" y="6172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Verdana"/>
              </a:rPr>
              <a:t>Team:Eureka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335480"/>
            <a:ext cx="45720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zioni Cine-audiovi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genzie Pubbl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343400"/>
            <a:ext cx="45720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zioni Video-Musi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otograf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457200" y="838080"/>
            <a:ext cx="960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Servizi fotografici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per prodotti multimed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47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54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Individuazione delle locations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necessarie alle specifiche necessità della produzi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0574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54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nformazioni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dettagliate sulle risorse umane locali (personale qualificato, maestranze, comparse, figuranti ecc.) e facilitazioni tecniche (laboratori di sviluppo e stampa, studi di post produzione audio e video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95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54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Archivio fotografico e vide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costantemente aggiornato delle migliori location e degli ambienti disponibili nel territo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5053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54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Verdana"/>
              </a:rPr>
              <a:t>Informazioni sui costi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locali di alloggi, catering ecc. ai fini della redazione di un preventivo e di un piano di lavorazione per le ripre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1148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54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ura dell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funzioni di raccord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tra la produzione e terzi (enti pubblici e privati, opinione pubblica) prima, durante e dopo le ripre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6483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54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cilitazioni e snellimenti per i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permessi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necessari alle riprese (occupazione del suolo pubblico, accessi riservati ecc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81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54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Banca Dati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aggiornabile e consultabile on line dal Portale con accesso riservato agli operato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84360" y="44280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I prodotti e servizi offerti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60228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086600" y="6143760"/>
            <a:ext cx="1600200" cy="637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29760" y="6172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Verdana"/>
              </a:rPr>
              <a:t>Team:Eureka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860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ome si vendono i prodotti/servizi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4419720"/>
            <a:ext cx="883944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arà possibile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acquistare direttamente on line detti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ervizi, oppure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prenotarli sul web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e rivolgersi poi  in loco  presso la Sede Operativa  di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FilmIdea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perfezionare la pratica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838080"/>
            <a:ext cx="876312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sito Portale Internet della FilmIdea  mettera' a disposizione  un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Databas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banca dati risorse umane  immagini e fotografie), per dare  la possibilità di individuare, visionare  e scegliere senza spese (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Free-Scouting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in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Puglia le Locations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per la  prossima produzion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 troveranno inoltre dati e informazioni utili per quanto riguarda gli </a:t>
            </a:r>
            <a:r>
              <a:rPr b="1" lang="it-IT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aspetti geografici, le condizioni meteorologiche, i principali collegamenti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tradali, ferroviari ed aerei, una selezione degli alberghi nelle principali città della Regione, realizzando così un notevolissimo risparmio di tempo e di danaro, e poi tutto quello che può essere utile alle Produ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si pensi che ogni giorno di stop alle riprese costa  migliaia di eu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60228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086600" y="6143760"/>
            <a:ext cx="1600200" cy="637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34600" y="6172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Verdana"/>
              </a:rPr>
              <a:t>Team:Eureka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E01832_" descr=""/>
          <p:cNvPicPr/>
          <p:nvPr/>
        </p:nvPicPr>
        <p:blipFill>
          <a:blip r:embed="rId2"/>
          <a:stretch/>
        </p:blipFill>
        <p:spPr>
          <a:xfrm>
            <a:off x="3276720" y="2063880"/>
            <a:ext cx="2744640" cy="2508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32080" y="513540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828720" cy="828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05720" y="60958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Verdana"/>
              </a:rPr>
              <a:t>Team:Eureka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086600" y="6095880"/>
            <a:ext cx="1600200" cy="6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27160" y="696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7240" y="895320"/>
            <a:ext cx="67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Verdana"/>
              </a:rPr>
              <a:t>Prossimamente sul Grande Schermo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0:32:18Z</dcterms:created>
  <dc:creator>carella</dc:creator>
  <dc:description/>
  <dc:language>en-US</dc:language>
  <cp:lastModifiedBy>carella</cp:lastModifiedBy>
  <dcterms:modified xsi:type="dcterms:W3CDTF">2003-03-10T11:53:35Z</dcterms:modified>
  <cp:revision>18</cp:revision>
  <dc:subject/>
  <dc:title>Presentazione di PowerPoint</dc:title>
</cp:coreProperties>
</file>