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3DE-8024-4AD1-B359-C05EFF02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ECC-65E3-4ED9-86FD-618778AA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AFC-F5F3-41CA-8196-CC806C9B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B1D-77FD-4716-AE09-8536B1FB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BB6-7805-42DF-9109-F4C4B01C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51F-98D4-4BB1-8EE5-AEF5E88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6AD-B10C-43B8-83A2-CE958FD1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FAE-AACA-4313-892F-A7986F25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802-C5A8-455F-B4B9-61EEE0BA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076-1D2D-4135-810E-0D9022CB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523-B504-4E20-9A78-9DCB8A8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421-C3A4-4F9B-9509-BCE3D3B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D7E-1EBD-499A-9682-E254400D14CD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  <a:ea typeface="바탕"/>
              </a:rPr>
              <a:t>PROGETTO</a:t>
            </a:r>
            <a:br>
              <a:rPr sz="22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바탕"/>
              </a:rPr>
              <a:t> 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바탕"/>
              </a:rPr>
              <a:t>“DIVABILI”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바탕"/>
              </a:rPr>
              <a:t>Diversamente abil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41144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BBIAMO BISOGNO DI TE, VOGLIAMO AIUTARTI A VIVERE  LIBERO DALLE BARRIER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ON E’ UN TUO PROBLEMA, E’ UNA NOSTRA RICCHEZZ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ocalizzazi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co Scientifico Tecnopoli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819520"/>
            <a:ext cx="8686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pecializzato nelle tecnologie dell’informazione e comunicazione, potrà supportare la società  nella creazione del Portale, del data-base “DIVABILI” e nella formazione a distanza.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oltre, il Parco non avendo barriere architettoniche è dotato di ambienti idonei per i portatori di handicap che potranno quindi raggiungere con facilità il TELECENTRO e muoversi in esso.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nvestimenti necessar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600200"/>
          <a:ext cx="7315200" cy="4486320"/>
        </p:xfrm>
        <a:graphic>
          <a:graphicData uri="http://schemas.openxmlformats.org/drawingml/2006/table">
            <a:tbl>
              <a:tblPr/>
              <a:tblGrid>
                <a:gridCol w="3619440"/>
                <a:gridCol w="3695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oce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tima in Euro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ttrezzatura e Macchinari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mputer e Programmi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utomezzi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redi e Macchine d’ufficio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evetti e licenz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ltro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otale 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523880"/>
          <a:ext cx="7925040" cy="4543560"/>
        </p:xfrm>
        <a:graphic>
          <a:graphicData uri="http://schemas.openxmlformats.org/drawingml/2006/table">
            <a:tbl>
              <a:tblPr/>
              <a:tblGrid>
                <a:gridCol w="3924360"/>
                <a:gridCol w="40006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oce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mporto in euro/annui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ffitto locali (compresi pulizia, luce, riscaldament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cquisto materie prim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pese di consulenze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6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Utenze (telefono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pese per dipendenti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ltri costi (servizi di rete + housing)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otale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5.000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icav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1523880"/>
          <a:ext cx="7925040" cy="4343400"/>
        </p:xfrm>
        <a:graphic>
          <a:graphicData uri="http://schemas.openxmlformats.org/drawingml/2006/table">
            <a:tbl>
              <a:tblPr/>
              <a:tblGrid>
                <a:gridCol w="3924360"/>
                <a:gridCol w="40006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ipologia servizio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mporto in euro/annui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lettini Informativi Consulenza Assistenza  (in abbonamento)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chede presentazione e richiesta lavoro di imprese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rsi di formazione presso il TELECENTRO e/o a distanza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0.0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pazi lavoro per disabili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ervizi “NAVIGATORE SOCIALE” (in abbonamento)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0.0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Totale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5.000</a:t>
                      </a:r>
                      <a:endParaRPr b="0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ESCRIZIONE DELL’ID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are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n PORTALE, specifico sui problemi dell’handicap, per favorire l’integrazione dei disabili nelle are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n “TELECENTRO”, dove ospitare i disabili per attività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n servizio “NAVIGATORE SOCIALE” che attraverso l’uso di palmari possa </a:t>
            </a:r>
            <a:r>
              <a:rPr b="1" i="1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uidare i disabili tra le barriere Architettoniche della Città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’OBIETTI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trasformare in ricchezza di tutti il disagio di alcun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ttraverso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o sfruttamento delle potenzialità delle tecnologie dell’informazion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ndendo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i cosiddetti handicap dei “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diversi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” punti di forza di un nuovo modo di vivere il nostro mondo, le nostre relazioni, i nostri spazi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L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Capo progetto: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66"/>
                </a:solidFill>
                <a:latin typeface="Times New Roman"/>
              </a:rPr>
              <a:t>Annamaria Caggiano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membro attivo della   “Fondazione CiaoVinny “  con conoscenze nelle leggi agevolative per il terzo settore )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Gli altri componenti del team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66"/>
                </a:solidFill>
                <a:latin typeface="Times New Roman"/>
              </a:rPr>
              <a:t>Lorenzo Moretti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vice presidente “Fondazione CiaoVinny “ , studente in Medicina )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66"/>
                </a:solidFill>
                <a:latin typeface="Times New Roman"/>
              </a:rPr>
              <a:t>Ruggiero Balice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insegnante di Istituti per disabili ) 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66"/>
                </a:solidFill>
                <a:latin typeface="Times New Roman"/>
              </a:rPr>
              <a:t>Eliana Papa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sulente Marketing)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66"/>
                </a:solidFill>
                <a:latin typeface="Times New Roman"/>
              </a:rPr>
              <a:t>Tommaso Armenise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grafico Pubblicitario)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VIZI DELL’IMPR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L </a:t>
            </a:r>
            <a:r>
              <a:rPr b="1" i="1" lang="it-IT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ORTALE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terrà informazioni organizzate per aree tematiche relative all’integrazione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3" marL="1752480" indent="-380880">
              <a:spcBef>
                <a:spcPts val="4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colastica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3" marL="1752480" indent="-380880">
              <a:spcBef>
                <a:spcPts val="4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avorativa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3" marL="1752480" indent="-380880">
              <a:spcBef>
                <a:spcPts val="4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ocia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3" marL="1752480" indent="-380880">
              <a:spcBef>
                <a:spcPts val="4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ervizi sanitari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ornirà assistenza e consulenza on-line di professionisti del settore sanitario,legislativo,assistenziale,tecnologico.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ubblicherà news - letters contenenti informazioni di utilità quali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3" marL="1752480" indent="-380880">
              <a:spcBef>
                <a:spcPts val="4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ovità nel settore delle tecnologie per l’handicap(es:carrozzine elettriche,letti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3" marL="1752480" indent="-380880">
              <a:spcBef>
                <a:spcPts val="4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ovità legislative a favore dell’ handicap,etc..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VIZI DELL’IMPR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Il </a:t>
            </a:r>
            <a:r>
              <a:rPr b="1" i="1" lang="it-IT" sz="2400" spc="-1" strike="noStrike">
                <a:solidFill>
                  <a:srgbClr val="ffff66"/>
                </a:solidFill>
                <a:latin typeface="Times New Roman"/>
              </a:rPr>
              <a:t>Data Base DIVABILI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 conterrà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Documentazione di interesse riguardante l’handica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Archivio di curricula dei portatori di handicap che ne faranno richiest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Offerte di lavoro di imprese che vorranno utilizzare il lavoro dei disabili sia presso le loro sedi che stand - alone dal Telecentro e dalle loro abitazion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VIZI DELL’IMPR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Un </a:t>
            </a:r>
            <a:r>
              <a:rPr b="1" i="1" lang="it-IT" sz="2800" spc="-1" strike="noStrike">
                <a:solidFill>
                  <a:srgbClr val="ffff66"/>
                </a:solidFill>
                <a:latin typeface="Times New Roman"/>
              </a:rPr>
              <a:t>TELECENTRO</a:t>
            </a:r>
            <a:r>
              <a:rPr b="0" i="1" lang="it-IT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dove ospitare i disabili per  attività di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Relazioni socia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Piccole attività lavorativ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Formazione/ Training professionale (realizzata sia in modo remoto sia presso il TELECENTRO)…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…</a:t>
            </a:r>
            <a:r>
              <a:rPr b="0" lang="it-IT" sz="2800" spc="-1" strike="noStrike">
                <a:solidFill>
                  <a:srgbClr val="ffff66"/>
                </a:solidFill>
                <a:latin typeface="Times New Roman"/>
              </a:rPr>
              <a:t>per la valorizzazione delle proprie capacità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VIZI DELL’IMPR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Un</a:t>
            </a:r>
            <a:r>
              <a:rPr b="0" lang="it-IT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ffff66"/>
                </a:solidFill>
                <a:latin typeface="Times New Roman"/>
              </a:rPr>
              <a:t>NAVIGATORE SOCIALE</a:t>
            </a:r>
            <a:r>
              <a:rPr b="1" lang="it-IT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istema informativo on line 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tenente una mappatura della Città di Bari  (città pilota ) che fornirà il percorso per il superamento delle barriere architettoniche cittadine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’uso di palmari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(collegabili ad Internet in modo remoto) consentirà l’accesso al “Navigatore Sociale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 chi è rivol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TENT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sabil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ortatori di handica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IENT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nti locali : Regione, Province, Comuni,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mprese,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sociazioni dell’Handicap,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sociazioni Sportive,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         </a:t>
            </a:r>
            <a:r>
              <a:rPr b="0" i="1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indacati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Divabili - Diversamente Abil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6:29:21Z</dcterms:created>
  <dc:creator>Annamaria Caggiano</dc:creator>
  <dc:description/>
  <dc:language>en-US</dc:language>
  <cp:lastModifiedBy>Di Mundo</cp:lastModifiedBy>
  <dcterms:modified xsi:type="dcterms:W3CDTF">2003-03-10T09:53:05Z</dcterms:modified>
  <cp:revision>40</cp:revision>
  <dc:subject>Concorso Buona Idea</dc:subject>
  <dc:title>PROGETTO   “DIVABILI” Diversamente abili</dc:title>
</cp:coreProperties>
</file>